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77920" y="69372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700200" y="4411440"/>
            <a:ext cx="560376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3C3E-4786-482B-AA63-B19010829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7920" y="69372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0200" y="4411440"/>
            <a:ext cx="56037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6158-D6FD-41B9-9CF9-F15FB6D21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28E5-52BF-4CB5-92ED-B00A94F6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385E-3F2C-42D5-AD1A-152F37ED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C2C7-35BF-4594-AADE-FECD3A84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D9BC-FF25-4A94-B249-854F1D16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F59E-80E5-4A0B-A7F5-A813A7636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2C03-97BB-4110-A6A8-5BDF447C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0E74-DECF-4592-A68D-F3F57B50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72D6-B27F-4A86-846B-623B47EC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048D-07B9-4CD9-91D9-09AF57ED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0057-13E3-4D0E-8CBF-210BE897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36D1-0DE2-495A-A612-8C6E5892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3677-7E85-4E08-8E7B-F53A6274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8418-682B-47B9-9700-853FECB1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176D-5025-4325-8225-C76CB172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7055-2AC2-4CCE-90BF-0148D69B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475A-C849-460B-946D-C94EB053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700D-52C8-4BD2-8E20-B7A72C31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4AFD-C3BF-4A00-86A8-0F2828D1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4F76-D8A1-4B32-BC45-30094016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2C3F-42A2-4E2B-B018-E98B7974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09AB-7992-4149-98A7-5F70035D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7716-494E-4576-8A9F-F3FCDBA9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D22E-7DEC-4D5D-A921-E2CFCAD1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10F5-55EE-4A54-9B10-9CB1F0C1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BD6B-80F7-4488-AE42-3259B98B581F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0641-AD72-44F1-B715-FFE3B7E06FF0}" type="slidenum">
              <a:rPr b="0" lang="lv-LV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274320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Rectangle 17"/>
          <p:cNvSpPr/>
          <p:nvPr/>
        </p:nvSpPr>
        <p:spPr>
          <a:xfrm>
            <a:off x="274320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CA98-2FC9-4FEE-8B78-16C81750DC3A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B6CB-B427-442F-BF6B-36A2895260BA}" type="slidenum">
              <a:rPr b="0" lang="lv-LV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lika.lv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ika.lv/" TargetMode="External"/><Relationship Id="rId2" Type="http://schemas.openxmlformats.org/officeDocument/2006/relationships/hyperlink" Target="mailto:lika@lika.lv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3280" cy="30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000000"/>
                </a:solidFill>
                <a:latin typeface="Tahoma"/>
              </a:rPr>
              <a:t>Būvniecības procesa kvalitāte un iespējas tās uzlabošanai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4076280"/>
            <a:ext cx="7772400" cy="20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ahoma"/>
              </a:rPr>
              <a:t>Raimonds Eizenšm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Inženierzinātņu doktor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LIKA valdes priekšsēdētāj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LBS valdes priekšsēdētāja pirmais vietnie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Smiltene 24.04.201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9FC2-C6D4-43E2-873E-1EF425D50C25}" type="slidenum">
              <a:rPr b="0" lang="lv-LV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1322-0DA0-4911-AA26-4A23ADADF4F8}" type="slidenum">
              <a:rPr b="0" lang="lv-LV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Ierosinājumi grozījumiem “Publisko iepirkumu likumā 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Valsts un pašvaldību iepirkumu konkursos konsultatīvo pakalpojumu sniedzēju izvēlēties izmantojot FIDIC ieteikto “Uz kvalitāti balstītu konsultantu atlasi” un ieviest tā saucamo divu aplokšņu princip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Vispirms iepirkumu komisija izskata un izvērtē katra pretendenta piedāvājuma kvalitāti, pretendenta kvalifikāciju un pieredzi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Pēc tam atver kvalitatīvākā piedāvājuma iesniedzēja aploksni ar finansiālo piedāvājum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Tikai tad, ja ar pirmo pretendentu netiek noslēgts līgums, izvēlas nākamo labāko pretendentu un atver tā otro aploksni ar finanšu piedāvājum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228600" y="6356520"/>
            <a:ext cx="853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8E85-3629-48D2-8732-F0934C692091}" type="slidenum">
              <a:rPr b="0" lang="lv-LV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3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Tahoma"/>
              </a:rPr>
              <a:t>Ieteikumi Pasūtītājiem inženierkonsultantu izvēlē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Times New Roman"/>
              </a:rPr>
              <a:t>Izvēloties konsultatīvo pakalpojumu sniedzēju, izmantojiet FIDIC ieteikumus un metodiku konsultantu uzņēmumu kapacitātes un piemērotības novērtēšanā, kas aprakstīti  brošūrā par LIKA - Latvijas inženierkonsultantu asociāciju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Times New Roman"/>
              </a:rPr>
              <a:t>Izmantojiet inženierkonsultantu pakalpojumus no projektu paša sākum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Times New Roman"/>
              </a:rPr>
              <a:t>Slēdzot pakalpojumu līgumus, izmantojiet FIDIC “Pasūtītāja / Konsultanta  tipveida pakalpojumu līgumu”,   t.s. “Balto grāmatu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228600" y="6356520"/>
            <a:ext cx="853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56AB-0793-404D-B40A-3EDD52E5EFDF}" type="slidenum">
              <a:rPr b="0" lang="lv-LV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5" descr="FIDIC grāmatas 003"/>
          <p:cNvPicPr/>
          <p:nvPr/>
        </p:nvPicPr>
        <p:blipFill>
          <a:blip r:embed="rId1"/>
          <a:stretch/>
        </p:blipFill>
        <p:spPr>
          <a:xfrm>
            <a:off x="2340000" y="189000"/>
            <a:ext cx="468000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EDED-E4E7-4B6D-9F6D-9665FDFD0A7A}" type="slidenum">
              <a:rPr b="0" lang="lv-LV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765000"/>
            <a:ext cx="77724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Starptautiska konference ar FIDIC, EFCA, Baltijas un Ziemeļvalstu inženierkonsultantu asociāciju vadītāju piedalīšanos 24. maijā VARAM konferenču zālē. </a:t>
            </a:r>
            <a:r>
              <a:rPr b="0" lang="lv-LV" sz="36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www.lika.lv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000000"/>
                </a:solidFill>
                <a:latin typeface="Times New Roman"/>
              </a:rPr>
              <a:t>Paldies par uzmanību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BFEC-4AED-478A-B117-50C11793B551}" type="slidenum">
              <a:rPr b="0" lang="lv-LV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456840"/>
            <a:ext cx="7575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500" spc="-1" strike="noStrike">
                <a:solidFill>
                  <a:srgbClr val="000000"/>
                </a:solidFill>
                <a:latin typeface="Tahoma"/>
              </a:rPr>
              <a:t>Projekta stadiju ietekme uz tā rezultātu</a:t>
            </a:r>
            <a:endParaRPr b="0" lang="en-US" sz="35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Picture 4" descr="Ietekme_uz_proj_rezult.jpg"/>
          <p:cNvPicPr/>
          <p:nvPr/>
        </p:nvPicPr>
        <p:blipFill>
          <a:blip r:embed="rId1"/>
          <a:stretch/>
        </p:blipFill>
        <p:spPr>
          <a:xfrm>
            <a:off x="457200" y="1263600"/>
            <a:ext cx="8229600" cy="5442120"/>
          </a:xfrm>
          <a:prstGeom prst="rect">
            <a:avLst/>
          </a:prstGeom>
          <a:ln w="0">
            <a:noFill/>
          </a:ln>
        </p:spPr>
      </p:pic>
      <p:sp>
        <p:nvSpPr>
          <p:cNvPr id="114" name="Footer Placeholder 5"/>
          <p:cNvSpPr/>
          <p:nvPr/>
        </p:nvSpPr>
        <p:spPr>
          <a:xfrm>
            <a:off x="152280" y="6524640"/>
            <a:ext cx="87631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EE40-7145-45E6-9B6B-35B59C65E0AA}" type="slidenum">
              <a:rPr b="0" lang="lv-LV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200" spc="-1" strike="noStrike">
                <a:solidFill>
                  <a:srgbClr val="000000"/>
                </a:solidFill>
                <a:latin typeface="Tahoma"/>
              </a:rPr>
              <a:t>Pasūtītājam jāatceras, ka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492280"/>
            <a:ext cx="7772400" cy="36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ahoma"/>
              </a:rPr>
              <a:t>uzbūvēt ātri, lēti un kvalitatīvi nav iespēj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ahoma"/>
              </a:rPr>
              <a:t>Būves kvalitāte sākas ar izpēti (feasibility studies) un izejas datu vākšan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1CCF-B190-473F-B636-49708E7C5315}" type="slidenum">
              <a:rPr b="0" lang="lv-LV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5480" y="549360"/>
            <a:ext cx="772308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ahoma"/>
              </a:rPr>
              <a:t>Pasūtītājam nepieciešm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60640"/>
            <a:ext cx="7772400" cy="35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irzīt vienotas prasības visiem pretendenti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alstīt konkurenc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kļauties budžetā un termiņ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pildīt tehniskos noteikum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vērot būvniecības likumdošanas prasīb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Būt neitrāl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9994-BE02-4D3A-8E93-A72B95F6DC1D}" type="slidenum">
              <a:rPr b="0" lang="lv-LV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3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Veiksmīga projekta realizācijas priekšnoteikumi</a:t>
            </a:r>
            <a:r>
              <a:rPr b="0" lang="lv-LV" sz="35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Darba uzdevumu sagatavo un izskata kompetenti speciāli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Darba uzdevums viennozīmīgs ar precīzi definētām prasībā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Reāls izpildes grafi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Zemākā cena nav galvenais kritērij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Izvēlēti piemēroti Izpildītāj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Laba izpildes darbu vadība un uzraudzīb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Footer Placeholder 3"/>
          <p:cNvSpPr/>
          <p:nvPr/>
        </p:nvSpPr>
        <p:spPr>
          <a:xfrm flipV="1">
            <a:off x="5029200" y="6668280"/>
            <a:ext cx="82296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2F44-9907-460E-BB1E-76E14ADBA05D}" type="slidenum">
              <a:rPr b="0" lang="lv-LV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7280" y="620280"/>
            <a:ext cx="7723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ahoma"/>
              </a:rPr>
              <a:t>Konsultatīvie pakalpojumi būvniecīb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7280" y="2491920"/>
            <a:ext cx="777240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 tehnoloģijām saistīti intelektuālie pakalpojumi radītā un dabiskā vid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s sniedz fiziska vai juridiska persona, kas, pamatojoties uz noslēgto līgumu ar Pasūtītāju, pārstāv Pasūtītāju visās vai jebkurā projektēšanas un būvniecības stadijā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1917-664F-441D-BDB0-93E8CFE325E0}" type="slidenum">
              <a:rPr b="0" lang="lv-LV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99640" y="1676160"/>
            <a:ext cx="755820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5400" spc="-1" strike="noStrike">
                <a:solidFill>
                  <a:srgbClr val="000000"/>
                </a:solidFill>
                <a:latin typeface="Tahoma"/>
              </a:rPr>
              <a:t>FIDIC</a:t>
            </a:r>
            <a:br>
              <a:rPr sz="5400"/>
            </a:br>
            <a:r>
              <a:rPr b="1" lang="lv-LV" sz="4400" spc="-1" strike="noStrike">
                <a:solidFill>
                  <a:srgbClr val="000000"/>
                </a:solidFill>
                <a:latin typeface="Tahoma"/>
              </a:rPr>
              <a:t>Federation Internationale des Ingenieurs - Conseils</a:t>
            </a:r>
            <a:r>
              <a:rPr b="0" lang="lv-LV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636640"/>
            <a:ext cx="777240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ptautiskā Inženieru Konsultantu federāci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bināta 1913 gad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šlaik: 92 biedri - Nacionālās asociācij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irāk nekā 1miljons profesionāļ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analizējusi daudzu projektu veiksmes un neveiksmes iemeslu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tvijā – LIKA, dibināta 2003. gad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0" lang="lv-LV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/>
              </a:rPr>
              <a:t>www.lika.lv</a:t>
            </a:r>
            <a:r>
              <a:rPr b="1" lang="lv-LV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r>
              <a:rPr b="0" lang="lv-LV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2"/>
              </a:rPr>
              <a:t>lika@lika.lv</a:t>
            </a:r>
            <a:r>
              <a:rPr b="1" lang="lv-LV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t: 6728490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42E9-AC71-48CE-B2A7-86B1DD9143C2}" type="slidenum">
              <a:rPr b="0" lang="lv-LV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199280" cy="115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Tahoma"/>
              </a:rPr>
              <a:t>QBS – Uz kvalitāti balstīta konsultantu atlase</a:t>
            </a:r>
            <a:r>
              <a:rPr b="0" lang="lv-LV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60280"/>
            <a:ext cx="777240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is labākā iespējamā kvalitāte, bet gan projektam piemērotākā kvalitā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ionālā kompet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oriskās pras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pacitāte un resursu pieejamīb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ionālā godprātīb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oloģija, projekta darba detaļas, inovāci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alitātes nodrošināšanas sistē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eitralitā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2142-08D8-4DCC-8D0C-C232F7AA0AB0}" type="slidenum">
              <a:rPr b="0" lang="lv-LV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0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ahoma"/>
              </a:rPr>
              <a:t>Lai iegūtu un izvērtētu šo informāciju, pasūtītāj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edāvājumu formā no konsultantu firmām jāsaņem salīdzināma, rakstiska informācij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āizved pārrunas ar firmu vadošo personālu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ākonsultējas ar citiem Pasūtītājiem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āiepazīstas ar viņu pabeigtajiem projektiem un jāapmeklē to lietotāji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Jānosaka kritēriju nozīmīgums un lielums to kopējā vērtējum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22:17:57Z</dcterms:created>
  <dc:creator>Raimonds</dc:creator>
  <dc:description/>
  <dc:language>en-US</dc:language>
  <cp:lastModifiedBy>Gauja</cp:lastModifiedBy>
  <dcterms:modified xsi:type="dcterms:W3CDTF">2013-04-22T09:24:00Z</dcterms:modified>
  <cp:revision>341</cp:revision>
  <dc:subject/>
  <dc:title>ОПРЕДЕЛЕНИЕ</dc:title>
</cp:coreProperties>
</file>