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16EE9-DC23-4318-A306-D3FD39690A68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91F910-8C9F-4DDF-948F-61B104C932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FF1EB2-C22C-44C0-B073-C694323F5B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0FF916-9EE6-4C3F-A730-7B36B51D84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4C83CF-3492-4EFF-A81A-774525B5A3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F0EA1F-919C-45A1-9AEB-DAF09FC1EE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1B2B2A-3879-4E3D-A351-1E7429F32F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AD950C-12B1-416A-99B0-CD80FBCEBA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E26C60-0591-4D53-9413-D494221B03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BF13CD1-E889-44DC-B936-A2102A55FF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4838826-F141-470C-A1CD-D97A9D9488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2F72CC-4D5D-41FB-A229-6DDE79C64D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4E739A-CAFD-4C8A-B8B2-FCC21C4395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7E2165-F453-4AC8-857A-2061D942D5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FB9C54-A16D-4004-8C03-C5BD9470C4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4159198-5851-4DDB-A5CF-459CC950E2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435F0C-ACE7-4C20-AE7A-D674DA78164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80FDCE7-63CE-4BFD-8917-D37378F043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A4458B-CBE9-4163-9B99-D57AFDE20E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BE800EC-AD89-422F-8195-3C4800AC3D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5C84A5-4D01-4E7E-BFCE-C6C4386BFF6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8603-023F-4E4F-B71C-65A644D2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F4BA-7D4B-4108-9074-06A8420E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0552-E8D0-4367-8ADF-A09674F1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1138-1A24-4C03-AF94-8AE43ED4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D308-2DCA-43E7-BAB3-4C606904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DA8D-76E2-49F5-9765-1A2007C8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65A5-1E8C-46B6-A6FF-EA811FA9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543C3-8084-43C9-BFFD-35E685CE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A807-20DE-4B41-AE0B-DB82F9F8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320B-74B8-4954-B46E-C65DD1C8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8EEF-6E1F-4C8C-8197-EF093CEB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7872-9014-41B8-9732-ACCB5404F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5C57-DF5C-4D1E-BA66-E56DF021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DC58-7A23-4E46-A033-F4A31277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30FDA-3C93-4E8F-898B-7F9C60B5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D6FBB-2D5B-4ADC-BFE3-C4D1608B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23891-B28C-4550-8DF2-81C72D072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CD368-2436-4E53-8409-425D5A90C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7786D-2688-4FD0-B169-7AD9D036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A8A52-B0E6-4052-9549-DE26A7EA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64E71-D3A3-4090-AC5E-298078CAD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4EA1-7C66-4764-B8A5-EA3A6ECC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5526-3F38-4C8B-B3E9-5997B195B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44C5A-3387-45EC-A88D-8DCA712D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553E2-E460-478E-86EF-CD15D876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9A16D-8174-4564-A4D2-1545CB3E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E2D19-10D6-4C16-B35A-A4676194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90975-7CAF-49BA-A302-35C10105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67E19-8D83-41DB-83AF-AABC6363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9A04F-1984-487F-9330-188A6040B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6E7A6-EEF9-4B72-BD7E-6B380777E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24E2F-E2BC-4805-A72D-D17F7E01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5429A-CB91-4079-A9D1-5BF49C5F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260A-A37D-448D-8478-618D37C7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03ED5-F1D2-49E8-841C-8E14DFA5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99DD1-6481-453A-B491-BBD53E5B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7055A-4472-46BB-B5DA-508E08F2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A5B4E-86A7-430B-9E6B-E54ED8E3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795DD-69C5-4F51-B1DA-098D7ED5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1D528-11E4-479F-AB0F-10D99AE9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526D8-ECC1-4AD1-809C-D1DA3ECD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070A3-64B3-4FF1-8D64-1397E369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9B3BF-95AA-4D5A-A324-AC3528179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CBAA6-79AF-4AB3-8393-BD37E2385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0204-EB8F-489A-ACDA-FEFB9BA7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6C7DC-9FD3-424B-A844-D829F748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9EBCE-0470-4756-A1A1-A603D1E9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EDE07-B06B-426B-8034-7BAF7796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62C3D8-6DF3-4BD7-95A8-3C75831C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5D84B-B4D8-475C-8358-92D8CFC9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AB52E-233B-4C47-BB1C-8CBF70A6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95DE2-E717-4D47-9674-103B5CB0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D1E0B-0146-4E4F-8B97-FCDE5CC10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60E88B-8046-4A01-8540-DF9FE4CF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47B4D-DBD1-427D-B813-24E3C0CC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8B06-21AB-4548-BC85-8BBE342B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AF85B-3B4D-4281-A67A-CA112B796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FC20-61B6-4593-BE07-7CC0E672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5B68-9BB8-408E-A1BF-C1F3DD0D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2860-A918-4B7B-8EC3-6827C41C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2E7F-6C44-4A0C-B268-37CEDAF93660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88EC-DCA8-4023-BE13-45CC9BBC0F5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592B-C5A6-492A-B707-D12E88817039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7959-FB03-46AE-A9B3-8E1C807DEC2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FBC1-AAE3-4657-B329-62F7D03B0391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07F7D-CB43-4262-8472-4172C7D9E17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3DD9-F902-4136-97A4-1ADEDF3A0638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2A91-E748-4D77-ABDB-F9CB1573755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EF36-3717-4422-B98A-A96D6212CFC9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7D4B-1094-4F6C-BBA6-70C9D01145C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iaa.gov.lv/lat/muzizglitibas_programma/erasmus_plus/par_macibu_mobilitatem/?tl_id=21447&amp;tls_id=1304" TargetMode="External"/><Relationship Id="rId2" Type="http://schemas.openxmlformats.org/officeDocument/2006/relationships/hyperlink" Target="http://www.viaa.gov.lv/lat/muzizglitibas_programma/erasmus_plus/par_macibu_mobilitatem/?tl_id=21447&amp;tls_id=1304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c.europa.eu/europe2020/index_en.htm" TargetMode="External"/><Relationship Id="rId2" Type="http://schemas.openxmlformats.org/officeDocument/2006/relationships/hyperlink" Target="http://ec.europa.eu/education/policy/strategic-framework/index_en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002060"/>
                </a:solidFill>
                <a:latin typeface="Verdana"/>
              </a:rPr>
              <a:t>Erasmus</a:t>
            </a:r>
            <a:r>
              <a:rPr b="0" lang="fr-BE" sz="1100" spc="-1" strike="noStrike">
                <a:solidFill>
                  <a:srgbClr val="002060"/>
                </a:solidFill>
                <a:latin typeface="Verdana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9966"/>
                </a:solidFill>
                <a:latin typeface="Verdana"/>
              </a:rPr>
              <a:t>ES </a:t>
            </a:r>
            <a:r>
              <a:rPr b="1" i="1" lang="fr-BE" sz="1800" spc="-1" strike="noStrike">
                <a:solidFill>
                  <a:srgbClr val="339966"/>
                </a:solidFill>
                <a:latin typeface="Verdana"/>
              </a:rPr>
              <a:t>programm</a:t>
            </a:r>
            <a:r>
              <a:rPr b="1" i="1" lang="lv-LV" sz="1800" spc="-1" strike="noStrike">
                <a:solidFill>
                  <a:srgbClr val="339966"/>
                </a:solidFill>
                <a:latin typeface="Verdana"/>
              </a:rPr>
              <a:t>a </a:t>
            </a:r>
            <a:r>
              <a:rPr b="1" i="1" lang="fr-BE" sz="1800" spc="-1" strike="noStrike">
                <a:solidFill>
                  <a:srgbClr val="339966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1800" spc="-1" strike="noStrike">
                <a:solidFill>
                  <a:srgbClr val="339966"/>
                </a:solidFill>
                <a:latin typeface="Verdana"/>
              </a:rPr>
              <a:t>izglītības, apmācības, jaunatnes un sporta jom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1800" spc="-1" strike="noStrike">
                <a:solidFill>
                  <a:srgbClr val="339966"/>
                </a:solidFill>
                <a:latin typeface="Verdana"/>
              </a:rPr>
              <a:t>2014-20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611280"/>
            <a:ext cx="82072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ff"/>
                </a:solidFill>
                <a:latin typeface="Calibri"/>
                <a:ea typeface="Arial"/>
              </a:rPr>
              <a:t>Iespējamais finansē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10920" y="1557000"/>
            <a:ext cx="806436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aksimums 150 000 EUR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Budžeta kategorija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ojekta vadība un īstenoš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arptautiskās projekta sanāks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ntelektuālie rezultā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Rezultātu izplatīšanas pasāku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tarptautiskās mācību mobilitā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Citas izmaksas un atbalsts speciālajām vajadzīb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280" y="539280"/>
            <a:ext cx="82076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ff"/>
                </a:solidFill>
                <a:latin typeface="Calibri"/>
                <a:ea typeface="Arial"/>
              </a:rPr>
              <a:t>Projekta vadība un īsteno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39640" y="1557000"/>
            <a:ext cx="8064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Finansējums paredzēts projekta vadībai, virtuālai sadarbībai, vietēja līmeņa aktivitātēm, informācijas izplatīš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rojekta koordinatoram 500,00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eur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mēnes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artneriem 250,00 </a:t>
            </a:r>
            <a:r>
              <a:rPr b="0" i="1" lang="lv-LV" sz="3200" spc="-1" strike="noStrike">
                <a:solidFill>
                  <a:srgbClr val="000000"/>
                </a:solidFill>
                <a:latin typeface="Calibri"/>
              </a:rPr>
              <a:t>euro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mēnes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Finansējums tiek piešķirts ne vairāk kā 10 organizācijā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280" y="611280"/>
            <a:ext cx="820764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ff"/>
                </a:solidFill>
                <a:latin typeface="Calibri"/>
                <a:ea typeface="Arial"/>
              </a:rPr>
              <a:t>Starptautiskās projekta sanāks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94920" y="1628280"/>
            <a:ext cx="8209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rojekta partneru sanāksmes pie kāda no partneriem par projekta īstenošanas jautājum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Jāpamato sanāksmes nepieciešamība un dalībnieku ska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edz dalībnieku ceļa un uzturēšanās izdevu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ax 23 000 </a:t>
            </a:r>
            <a:r>
              <a:rPr b="0" i="1" lang="lv-LV" sz="2800" spc="-1" strike="noStrike">
                <a:solidFill>
                  <a:srgbClr val="000000"/>
                </a:solidFill>
                <a:latin typeface="Calibri"/>
              </a:rPr>
              <a:t>euro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/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360" y="611280"/>
            <a:ext cx="82072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ff"/>
                </a:solidFill>
                <a:latin typeface="Calibri"/>
                <a:ea typeface="Arial"/>
              </a:rPr>
              <a:t>Intelektuālie rezultāt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39640" y="1557000"/>
            <a:ext cx="80647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zultāts, kuram ir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nozīmīga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otenciāla ietekme un pārnesamība. Piemēram, jaunas mācību programmas, pedagoģiskie materiāli, IT rīki, pētījumi utt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ersonāla izmaksas, kas rodas strādājot pie projekta rezultā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4 personāla kategorijas (manager, researcher/teacher/trainer, technician, administrativ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Jāpamato pieprasītais finansēju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280" y="682200"/>
            <a:ext cx="820764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ff"/>
                </a:solidFill>
                <a:latin typeface="Calibri"/>
                <a:ea typeface="Arial"/>
              </a:rPr>
              <a:t>Rezultātu izplatīšanas pasāk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755640" y="1628280"/>
            <a:ext cx="77040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acionālu un starptautisku semināru/konferenču organizēšanas izmaksas rezultātu izplatī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Tiek piešķirti tikai tādā, gadījuma, ja projektā tiek izstrādāti intelektuālie rezultāti (</a:t>
            </a:r>
            <a:r>
              <a:rPr b="0" i="1" lang="lv-LV" sz="2400" spc="-1" strike="noStrike">
                <a:solidFill>
                  <a:srgbClr val="000000"/>
                </a:solidFill>
                <a:latin typeface="Calibri"/>
              </a:rPr>
              <a:t>intellectual output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100,00 </a:t>
            </a:r>
            <a:r>
              <a:rPr b="0" i="1" lang="lv-LV" sz="2400" spc="-1" strike="noStrike">
                <a:solidFill>
                  <a:srgbClr val="000000"/>
                </a:solidFill>
                <a:latin typeface="Calibri"/>
              </a:rPr>
              <a:t>euro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r dalībnieku no valsts, kur notiek seminā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00,00 </a:t>
            </a:r>
            <a:r>
              <a:rPr b="0" i="1" lang="lv-LV" sz="2400" spc="-1" strike="noStrike">
                <a:solidFill>
                  <a:srgbClr val="000000"/>
                </a:solidFill>
                <a:latin typeface="Calibri"/>
              </a:rPr>
              <a:t>euro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r dalībnieku no citas val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Max 30 000,00 </a:t>
            </a:r>
            <a:r>
              <a:rPr b="0" i="1" lang="lv-LV" sz="2400" spc="-1" strike="noStrike">
                <a:solidFill>
                  <a:srgbClr val="000000"/>
                </a:solidFill>
                <a:latin typeface="Calibri"/>
              </a:rPr>
              <a:t>euro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rojektā jeb 200 dalībnieku izmaks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50920" y="611280"/>
            <a:ext cx="82072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ff"/>
                </a:solidFill>
                <a:latin typeface="Calibri"/>
                <a:ea typeface="Arial"/>
              </a:rPr>
              <a:t>Citas aktivitātes - mobilitā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755640" y="1484280"/>
            <a:ext cx="7848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Apvienotā mobilitāte (blended mobility) – īstermiņa mobilitāte (mazāk kā 2 mēneši) un virtuālā mobilitāte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Skolēnu grupu īstermiņa apmaiņas:  5 dienas - 2 mēneši (bez vecuma ierobežoju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lgtermiņa skolēnu mobilitātes:  2 - 12 mēneši (skolēni, kam ir vismaz 14 gad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Ilgtermiņa personāla mācības vai mācīšana partneriestādē: 2 - 12 mēneš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Īstermiņa kopīgi personāla mācību pasākumi:  5 dienas – 2 mēneš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ējums ir paredzēts ceļa izdevumiem un uzturēšanās izdevumie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Finansējums  valodas prasmju  pilnveidei ir paredzēts, ja mobilitātes ilgums ir no 2 līdz 12  mēnešiem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Mobilitātēm jābūt pamatotām, projekta iesniegumā ir jāraksturo kā plānotās mobilitātes palīdzēs sasniegt projekta mērķu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472040"/>
            <a:ext cx="820728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  <a:ea typeface="Arial"/>
              </a:rPr>
              <a:t>Citas izmaksas un atbalsts speciālajām vajadzībā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755640" y="2852280"/>
            <a:ext cx="77040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</a:rPr>
              <a:t>Reālās izmaks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</a:rPr>
              <a:t>Citas izmaksas paredzētas apakšuzņēmēju līgumiem un preču/pakalpojumu iegādei saistībā ar rezultātu izstrādi. Max 50000,00 </a:t>
            </a:r>
            <a:r>
              <a:rPr b="0" i="1" lang="lv-LV" sz="1600" spc="-1" strike="noStrike">
                <a:solidFill>
                  <a:srgbClr val="000000"/>
                </a:solidFill>
                <a:latin typeface="Calibri"/>
              </a:rPr>
              <a:t>eu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</a:rPr>
              <a:t>Atbalsts speciālajām vajadzībām – saistīts ar dalībnieku ar īpašām vajadzībām dalību projekta aktivitātē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280" y="755280"/>
            <a:ext cx="820764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ff"/>
                </a:solidFill>
                <a:latin typeface="Calibri"/>
                <a:ea typeface="Arial"/>
              </a:rPr>
              <a:t>Pieteikuma iesniegšanas procedū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55640" y="1557000"/>
            <a:ext cx="77040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eteikuma veidlapa – elektroniska, pieejama internetā (tiks ievietota VIAA mājas lapā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atra skola pirms pieteikumu iesniegšanas reģistrējas sistēmā, saņemot īpašu kodu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urpmākajos pieteikumos jāuzrāda šis kods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av nepieciešams papīra formas pieteiku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280" y="847440"/>
            <a:ext cx="82076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ffff"/>
                </a:solidFill>
                <a:latin typeface="Calibri"/>
                <a:ea typeface="Arial"/>
              </a:rPr>
              <a:t>Pieteikuma izstrādei nepieciešamie dokumen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55640" y="1557000"/>
            <a:ext cx="77040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rasmus + Programme Guide </a:t>
            </a:r>
            <a:r>
              <a:rPr b="0" lang="lv-LV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viaa.gov.lv/lat/muzizglitibas_programma/erasmus_plus/par_macibu_mobilitatem/?tl_id=21447&amp;tls_id=13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dlīnijas organizāciju reģistrācijai URF sistēmā </a:t>
            </a:r>
            <a:r>
              <a:rPr b="0" lang="lv-LV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viaa.gov.lv/lat/muzizglitibas_programma/erasmus_plus/par_macibu_mobilitatem/?tl_id=21447&amp;tls_id=1304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280" y="847440"/>
            <a:ext cx="82076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ffff"/>
                </a:solidFill>
                <a:latin typeface="Calibri"/>
                <a:ea typeface="Arial"/>
              </a:rPr>
              <a:t>Stratēģiskie dokumen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560" y="1557000"/>
            <a:ext cx="82818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Europe 2020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ec.europa.eu/europe2020/index_en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Education and training 2020 </a:t>
            </a:r>
            <a:r>
              <a:rPr b="1" lang="lv-LV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ec.europa.eu/education/policy/strategic-framework/index_en.htm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0920" y="609120"/>
            <a:ext cx="806436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alibri"/>
                <a:ea typeface="Arial"/>
              </a:rPr>
              <a:t>KA 2 Stratēģisko partnerību mērķ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9640" y="1628280"/>
            <a:ext cx="8064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704880" indent="-3517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Veicināt izglītības piedāvājuma kvalitāti, izstrādājot jaunas un inovatīvas pieejas un veicināt labās prakses piemēru izplatīšan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04880" indent="-3517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Veicināt pamatkompetenču nodrošināšanu un novērtēšanu, ieskaitot galvenās prasmes un transversālās prasmes, īpaši uzņēmējdarbības, valodu un digitālās prasmes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04880" indent="-3517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Paaugstināt mācību piedāvājuma un kvalifikāciju  atbilstību darba tirgus prasībām un pastiprināt izglītības, apmācības un jaunatnes jomas saikni ar darba pasau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04880" indent="-3517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Inovatīvu prakšu  veicināšana izglītībā, atbalstot personalizētas mācību pieejas, koopearatīvo mācīšanos un kritisko domāšanu, IKT stratēģisko izmantošanu un brīvas piekļuves mācību resursus, virtuālo mobilitāti un citas inovatīvas mācību metode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04880" indent="-3517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Starpreģionālas sadarbības veicināšana: veicināt vietējo pašvaldību iesaistīšanu kvalitatīvajā izglītības un apmācības attīstīb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280" y="847440"/>
            <a:ext cx="82076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ffff"/>
                </a:solidFill>
                <a:latin typeface="Calibri"/>
                <a:ea typeface="Arial"/>
              </a:rPr>
              <a:t>Pieteikuma izstrādei nepieciešamie dokumen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55640" y="1557000"/>
            <a:ext cx="77040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Erasmus + Programme Guide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http://www.viaa.gov.lv/lat/muzizglitibas_programma/erasmus_plus/par_macibu_mobilitatem/?tl_id=21447&amp;tls_id=13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adlīnijas organizāciju reģistrācijai URF sistēm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http://www.viaa.gov.lv/lat/muzizglitibas_programma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erasmus_plus/par_macibu_mobilitatem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?tl_id=21447&amp;tls_id=130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8360" y="15757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55640" y="3933720"/>
            <a:ext cx="7704000" cy="24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irāk informācij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http://ec.europa.eu/erasmus-pl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http://ec.europa.eu/education/opportunities/index_en.ht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http://www.viaa.gov.lv/lat/muzizglitibas_programma/erasmus_plus/erasmus_plus_about/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Calibri"/>
              </a:rPr>
              <a:t>Baiba Sermuliņ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Calibri"/>
              </a:rPr>
              <a:t>Comenius un Mācību braucienu nodaļas vadītāja, VIA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Calibri"/>
              </a:rPr>
              <a:t>baiba.sermulina@viaa.gov.l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Calibri"/>
              </a:rPr>
              <a:t>Tel. 678 1432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36520" indent="-236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14" descr="erasmus4all"/>
          <p:cNvPicPr/>
          <p:nvPr/>
        </p:nvPicPr>
        <p:blipFill>
          <a:blip r:embed="rId1"/>
          <a:stretch/>
        </p:blipFill>
        <p:spPr>
          <a:xfrm>
            <a:off x="755640" y="-100080"/>
            <a:ext cx="5832360" cy="4537080"/>
          </a:xfrm>
          <a:prstGeom prst="rect">
            <a:avLst/>
          </a:prstGeom>
          <a:ln w="0">
            <a:noFill/>
          </a:ln>
        </p:spPr>
      </p:pic>
      <p:sp>
        <p:nvSpPr>
          <p:cNvPr id="2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ff"/>
                </a:solidFill>
                <a:latin typeface="Calibri"/>
              </a:rPr>
              <a:t>Kontaktinformācij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na Meržvins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VIAA, Comenius un Mācību braucienu nodaļas, vecākā programmas speciālis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Jana.merzvinska@viaa.gov.l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el. 6735907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b050"/>
                </a:solidFill>
                <a:latin typeface="Calibri"/>
              </a:rPr>
              <a:t>Paldies par uzmanību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00b050"/>
                </a:solidFill>
                <a:latin typeface="Calibri"/>
              </a:rPr>
              <a:t>Lai veicas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641160"/>
            <a:ext cx="8207280" cy="61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ffffff"/>
                </a:solidFill>
                <a:latin typeface="Calibri"/>
                <a:ea typeface="Arial"/>
              </a:rPr>
              <a:t>KA 2 Stratēģisko partnerību mērķ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94920" y="1412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12080" indent="-3553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icināt izglītībā un apmācībā iesaistīto profesionālo pilnveidi, ieviešot inovācijas un paaugstinot kvalitāti sākotnējā un tālākizglītībā, iekļaujot jaunas pedagoģiskās pieejas, uz IKT balstītās metodes un brīvās piekļuves mācību resursus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12080" indent="-3553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Paaugstināt izglītībā iesaistīto organizāciju kapacitāti šādās jomās: stratēģiskā attīstība, organizācijas menedžments, līderība, mācību piedāvājuma kvalitāte, internacionalizācija, vienlīdzība un iekļaušana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12080" indent="-3553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icināt taisnīgumu un iekļaušanu izglītībā, apmācībā un jaunatnes jomā, lai nodrošinātu kvalitatīvu izglītību visiem, kā arī novērstu skolas pamešanu un veicinātu cilvēku ar ierobežotām iespējās iekļaušanu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12080" indent="-3553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icināt uzņēmējdarbības izglītību, lai attīstītu aktīvu pilsonību, nodarbinātību un jaunu biznesu izvei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12080" indent="-3553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icināt līdzdalību izglītībā un nodarbinātība, izstrādājot kvalitatīvu atbalstu karjeras izvēle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12080" indent="-35532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Veicināt izglītojamo pāreju no dažādiem formālās/neformālās izglītības līmeņiem un veidiem ar Eiropas instrumentu palīdzību kompetenču un kvalifikāciju atzīšanai un validēšanai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712080" indent="-3553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712080" indent="-3553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363600"/>
            <a:ext cx="8207280" cy="110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alibri"/>
                <a:ea typeface="Arial"/>
              </a:rPr>
              <a:t>Aktivitātes, kuras atbalsta stratēģiskās partnerīb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6560" y="1628280"/>
            <a:ext cx="72723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9280" indent="-358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Aktivitātes, kuras stiprina organizāciju sadarbību labo prakšu apmaiņa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19280" indent="-358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Aktivitātes, kuras veicina inovatīvu prakšu attīstību, testēšanu un/vai ieviešanu izglītības, apmācības un jaunatnes jom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19280" indent="-358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Aktivitātes, kas veicina formālā un neformālā veidā apgūto prasmju un kompetenču atzīšanu un validēšanu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19280" indent="-358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Sadarbības aktivitātes starp pašvaldībām, lai veicinātu izglītības, apmācības un jaunatnes sistēmu pilnveidi un to integrēšanu vietējā un reģionālajā attīstīb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19280" indent="-35892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Transnacionālas aktivitātes, kuras veicina uzņēmējdarbības prasmes, lai veicinātu aktīvu pilsonību un uzņēmējdarbību (ieskaitot sociālo uzņēmējdarbību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703080"/>
            <a:ext cx="820728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ffff"/>
                </a:solidFill>
                <a:latin typeface="Calibri"/>
                <a:ea typeface="Arial"/>
              </a:rPr>
              <a:t>KA 2 aktivitāte Stratēģiskās partnerība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10920" y="1700280"/>
            <a:ext cx="7993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12080" indent="-3553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</a:rPr>
              <a:t>Projektos sasniedzamie rezultāti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12080" indent="-35532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</a:rPr>
              <a:t>Inovatīvas pieejas, kas atbilst mērķgrupu vajadzībām, nodrošinot piemēram: pievilcīgākas izglītības un apmācības programmas; uz izglītojamo iesaistīšanu un IKT balstītās metodes; jauni vai uzlaboti procesi kompetenču atzīšanai un validēšanai; jaunas vai pilnveidotas metodes darbam ar grupām ar ierobežotām iespējām un sociālo, valodu un kultūru daudzveidību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12080" indent="-35532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12080" indent="-35532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</a:rPr>
              <a:t>moderna, dinamiska, profesionāla vide organizācijā: gatavība integrēt labo praksi un jaunas metodes ikdienas aktivitātēs; atvērtība sinerģijai ar organizācijām, kas ir aktīvas dažādas jomās vai citos socio-ekonomiskos sektoros; personāla profesionālās pilnveides stratēģiska plānošana saskaņā ar individuālām vajadzībām un organizācijas mērķiem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12080" indent="-3553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712080" indent="-35532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</a:rPr>
              <a:t>Paaugstināta kapacitāte un profesionālisms darbam ES/starptautiskā līmenī: uzlabotas vadīšanas kompetences un inernacionalizācijas stratēģijas; pastiprināta sadarbība ar partneriem no citām valstīm, izglītības jomām vai socio-ekonomiskiem sektoriem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539280"/>
            <a:ext cx="8207280" cy="6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ff"/>
                </a:solidFill>
                <a:latin typeface="Calibri"/>
                <a:ea typeface="Arial"/>
              </a:rPr>
              <a:t>Darbības pamatprinci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55640" y="1628280"/>
            <a:ext cx="770400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00"/>
                </a:solidFill>
                <a:uFillTx/>
                <a:latin typeface="Calibri"/>
              </a:rPr>
              <a:t>Kas var piedalīties stratēģiskā partnerībā</a:t>
            </a: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Jebkura organizācija, kas darbojas izglītības, apmācības un jaunatnes jomā, dažādos ekonomiskos sekto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artnerību var veidot organizācijas no programmas valstīm un partnervalstī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rojektu iesniedz koordinējošā iestāde visas partnerības vārdā. Koordinējošā iestāde ir no programmas valst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611280"/>
            <a:ext cx="8207280" cy="67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ff"/>
                </a:solidFill>
                <a:latin typeface="Calibri"/>
                <a:ea typeface="Arial"/>
              </a:rPr>
              <a:t>Partnerības dalībnie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55640" y="1484280"/>
            <a:ext cx="770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Min 3 organizācijas no trim dažādām programmas valstī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 partneri no 2 programmas valstīm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Ja sadarbojas tikai sko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Ja sadarbojas reģionālās skolu autoritātes un šajā partnerībā jāiekļauj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ģionālās varas iestādes (pašvaldības, izglītības pārvaldes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Sko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ta organizācija, kas aktīva izglītības, apmācības vai darba tirgus jomā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682200"/>
            <a:ext cx="8207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ff"/>
                </a:solidFill>
                <a:latin typeface="Calibri"/>
                <a:ea typeface="Arial"/>
              </a:rPr>
              <a:t>Partnerības projekta ilg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55640" y="1484280"/>
            <a:ext cx="7704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2 vai 3 gad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iek noteikts projekta pieteikum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Atsevišķos gadījumos stratēģiskās partnerības ilgums pēc vienošanās ar Nacionālo aģentūru var tikt pagarināts par 6 mēnešiem ar noteikumu, ka kopējais projekta garums nevar pārsniegt 3 gadus. Finansējums netiek mainī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11280" y="672840"/>
            <a:ext cx="8207280" cy="5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alibri"/>
                <a:ea typeface="Arial"/>
              </a:rPr>
              <a:t>Kad un kur iesniegt projekta pieteikumu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10920" y="1484280"/>
            <a:ext cx="7993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vas valsts Nacionālajā aģentūrā (skolu, profesionālā, augstākā, pieaugušo izglītības sektori Latvijā VIA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ieteikumu iesniegšanas pēdējā diena 2014. gada 30. aprīlis (12:00 pēc Briseles laik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14:40:03Z</dcterms:created>
  <dc:creator>ieva.lorence</dc:creator>
  <dc:description/>
  <dc:language>en-US</dc:language>
  <cp:lastModifiedBy>Jana.Merzvinska</cp:lastModifiedBy>
  <dcterms:modified xsi:type="dcterms:W3CDTF">2014-01-24T11:52:10Z</dcterms:modified>
  <cp:revision>36</cp:revision>
  <dc:subject/>
  <dc:title>Slide 1</dc:title>
</cp:coreProperties>
</file>