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2EF5F-DD8E-4D28-8AC6-E5E70BD39F1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7185-AFE4-428D-9D14-AD3E3A3B3F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009. gada Mobilitātes projektu vadības seminā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ate Placeholder 5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2009.06.1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B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65F23F8-CD95-462F-9A29-1F95793FDC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7628-41B6-48E7-8128-9D6E4EE1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831C-14D0-44BE-9946-0772690A6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BEC-2527-48E3-815F-84E8CF0E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AFC-8E5B-4EEB-B5D9-6C386EE09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BEF0-3BAF-42F5-8351-608FA30EC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1334-9DA8-46DC-9F6E-3907BE53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8984-396C-47D1-A0DB-D8AC82904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DA592-3E68-42AF-9771-E9EDA0D4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19E8-9219-4698-AABC-3162D12BE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4DCD-EBB8-4A1E-BC7D-225BB849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D36-8CDF-40D9-8A62-938307AB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0B59-12D6-46D2-B8CB-E06AEB27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2364-F458-4CE1-B45C-ED391AEB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65B9-DB7F-48BC-AAF1-3A57E746A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1E7C-4964-4C43-B002-6073A664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D4C9-FAE1-4D01-8892-C181EEF9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891E-B5BE-4B43-8745-269B72283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051A2-27AB-49D5-AD7B-1A492AAF7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DD505-2B6D-4F75-A220-79C61069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B650E-3B88-4B2A-A8CB-1B0B9A4A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E764-432B-482D-85B8-24954C21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C6946-9BE6-4655-BCE7-8BC00659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09DC-D471-4BBD-B969-C67DF475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FFAB4-DE22-4E1D-8615-AAB868F9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FE74D-C88A-487D-B4E7-66F69A4CB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23F92-37A2-4491-AADE-32ACF283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E81A0-C76E-45E4-8BAC-381A4F7C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F9CE-C9D0-4965-BA6E-7D5104C5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6CA58-6ABF-4439-A5DE-A746B7B4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1E4BD-D650-4D38-BAF6-FD066B28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C0CCA-0C29-463B-AFEC-815B648B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2CDC7-391B-45D1-9AD9-39EE161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D6E54-5B7C-465E-96E0-4CA16DC4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6DB7-1043-4FC4-9893-82C1BCE7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C6BD7-B188-43F9-A93A-DE3D4FDD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AC81-DB2C-421D-8F8D-26EE5670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81C82-9ADB-4856-BB6E-AA4D9F8FE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6544-446D-4A29-AFED-6CE3E0B1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B28669-B4C3-4C81-AAD5-C561563E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76E8-55E8-4CF5-B0AB-DCDF9374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21DEE-D7C2-488A-8DD9-CB67FD4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4438-065D-4B7D-815A-AF2A55F7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640D6-AE04-4205-9060-D77FE616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03724-6C8C-4C29-A5C8-09CE5E3FA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B0BE-914B-4AF2-8381-AED04136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9D150-4474-49C6-B326-62E03A7C4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10A4-8B9C-4333-9849-E58570E9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EFE3E-B2D0-4515-9729-FC9F2C5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F800BB-0706-4266-B7CF-02F81DF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8E77D-AD57-4CF1-9373-82261B81C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F0218-E198-4E71-9EB6-62E31756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081873-8763-4489-8AA8-D44FF7AE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A01B7-1D6D-4973-A6D2-F99297D6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2576D-C0CC-40F9-99F7-D1107935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D4750-42DD-496E-A596-0EF9A75E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BF24-FD11-4940-BBB6-C6D3C20DD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9DD66D-2FF2-4AA1-9156-3A9E8E30C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E3C-BB5A-4FE2-B301-9A3F11DB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A328-1F2F-48D2-8771-33BAEBA0C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7D02-341D-45E7-9BAA-1778808C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2F36D-C610-4496-9E80-343BF126D28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1903-2C35-4747-95F7-D85F63B5DD8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D831-A235-4F9C-BF90-E8C155CBC64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7711-D851-4844-A930-373FE5833C4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C911-A9C5-40A2-939A-2063B322FE6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2960" y="3643200"/>
            <a:ext cx="7772400" cy="125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4292640"/>
            <a:ext cx="6400800" cy="12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7375e"/>
                </a:solidFill>
                <a:latin typeface="Calibri"/>
              </a:rPr>
              <a:t>Personāla mācību mobilitā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7375e"/>
                </a:solidFill>
                <a:latin typeface="Calibri"/>
              </a:rPr>
              <a:t>   </a:t>
            </a:r>
            <a:r>
              <a:rPr b="1" lang="lv-LV" sz="3200" spc="-1" strike="noStrike">
                <a:solidFill>
                  <a:srgbClr val="17375e"/>
                </a:solidFill>
                <a:latin typeface="Calibri"/>
              </a:rPr>
              <a:t>ES 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programm</a:t>
            </a:r>
            <a:r>
              <a:rPr b="1" lang="lv-LV" sz="3200" spc="-1" strike="noStrike">
                <a:solidFill>
                  <a:srgbClr val="17375e"/>
                </a:solidFill>
                <a:latin typeface="Calibri"/>
              </a:rPr>
              <a:t>ā Erasmus+</a:t>
            </a: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g.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Erasmus+_vect_POS.jpg"/>
          <p:cNvPicPr/>
          <p:nvPr/>
        </p:nvPicPr>
        <p:blipFill>
          <a:blip r:embed="rId1"/>
          <a:stretch/>
        </p:blipFill>
        <p:spPr>
          <a:xfrm>
            <a:off x="4643280" y="1773360"/>
            <a:ext cx="4284720" cy="1224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Erasmus+_vect_POS.jpg"/>
          <p:cNvPicPr/>
          <p:nvPr/>
        </p:nvPicPr>
        <p:blipFill>
          <a:blip r:embed="rId2"/>
          <a:stretch/>
        </p:blipFill>
        <p:spPr>
          <a:xfrm>
            <a:off x="5651640" y="6165720"/>
            <a:ext cx="186192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lv-LV" sz="4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KA1</a:t>
            </a: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: personāla mobilitāte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1700280"/>
            <a:ext cx="8640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Mērķis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aaugstināt personāla prasmes un kompetenc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iedāvāt profesionālās pilnveides iespējas ārzemē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Aktivitāt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rofesionālā pilnve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kursi/strukturētas mācības ārzemē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darba vērošana citas valsts skolā vai citā atbilstošā ar skolu izglītību saistītā organizācijā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mācību stundu vadīšanā citas valsts skol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5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KA1 skolu sektor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916280"/>
            <a:ext cx="80755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K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rogrammas dalībvalstī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Cik ilgi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2 dienas līdz 2 mēneši (neskaitot ceļošanu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17375e"/>
                </a:solidFill>
                <a:latin typeface="Calibri"/>
              </a:rPr>
              <a:t>KA1 finansēju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89000"/>
            <a:ext cx="80755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Atbalstītās izdevumu kategorija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eļa izdevu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zturēšanās izdevu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dministratīvie izdevum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kursu dalības maks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nansējums speciālajām vajadzībā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Calibri"/>
              </a:rPr>
              <a:t>Ceļa izdev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unit cost” – tiek aprēķināti ņemot vērā cilvēku skaitu un attālumu no nosūtošās līdz uzņemošajai organizācij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1258920" y="3141720"/>
          <a:ext cx="6095880" cy="25606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– 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 €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– 4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– 19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 – 29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 – 39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0 – 79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0 – 19999 k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264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Calibri"/>
              </a:rPr>
              <a:t>Uzturēšanās izdev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unit cost” – tiek aprēķināti ņemot vērā cilvēku skaitu, mobilitātes ilgumu un uzņemošo val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Calibri"/>
              </a:rPr>
              <a:t>Administratīvie izdevum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unit cost” – tiek aprēķināti ņemot vērā cilvēku skait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espējams segt izdevumus, kas saistīti ar dalībnieku sagatavošanu (kultūras, pedagoģiskā, valodnieciskā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Iespējams izmantot ceļa izdevumu vai uzturēšanās izdevumu segšan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1- 100 dalībnieki, 350 € par dalībniek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irs 100 dalībniekiem, 200 € par dalībnie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ffffff"/>
                </a:solidFill>
                <a:latin typeface="Calibri"/>
              </a:rPr>
              <a:t>Citas izmaks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844280"/>
            <a:ext cx="8002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Kursu dalības maks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it cost” atkarībā no kursu dienu skaita, 70 € dienā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maksimālais atbalsts kursu maksai 700 €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Finansējums 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speciālajām vajadzīb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ās izmaks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aredzēts tikai cilvēkiem, kam ir speciālas vajadzības (cilvēki ar invaliditāti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Mācību mobilitātes </a:t>
            </a: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(KA1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0000"/>
                </a:solidFill>
                <a:latin typeface="Calibri"/>
              </a:rPr>
              <a:t>Stratēģiska, institucionāla pieeja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Pieteikumu iesniedz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sko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Pieteikumā 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Eiropas attīstības plānā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aprakstīta skolas stratēģija un tālākizglītības vajadzīb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Pieteikums attiecas uz mobilitātēm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1 vai 2 gadu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garumā un tajā var tikt ietvertas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vairākas individuālās mobilitā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Mobilitātes dalībnieku vārdi vai konkrētie kursi nav detalizēti  jāapraksta, bet jāpamato dalībnieku atlases procedū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Eiropas attīstības plā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3640" y="1773000"/>
            <a:ext cx="85690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Kādas ir Jūsu skolas kvalitātes paaugstināšanas vajadzības (piem., vadības kompetences, skolotāju kompetences, jaunas mācību metodes un līdzekļi, svešvalodu kompetenču uzlabošana, mācību procesa organizācija, mācību satura uzlabošana utml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Lūdzu, norādiet skolas plānus attiecībā uz Eiropas mobilitāti un sadarbības aktivitātēm, un paskaidrojiet, kā šīs aktivitātes palīdzēs iepriekš minēto mērķu sasniegšanā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Kā jauniegūtā pieredze un kompetences tiks izmantotas un integrētas nākotnes stratēģiskajos plāno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ai Jūsu skola izmantos eTwinning saistībā ar šo mobilitātes projektu? Ja “jā”, tad lūdzu aprakstiet, kā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Erasmus+_vect_POS.jpg"/>
          <p:cNvPicPr/>
          <p:nvPr/>
        </p:nvPicPr>
        <p:blipFill>
          <a:blip r:embed="rId1"/>
          <a:stretch/>
        </p:blipFill>
        <p:spPr>
          <a:xfrm>
            <a:off x="6012000" y="6165720"/>
            <a:ext cx="159516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500040"/>
            <a:ext cx="85694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Pieteikuma iesniegšanas procedū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916280"/>
            <a:ext cx="8147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teikuma veidlapa – elektroniska, pieejama internetā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atra skola pirms pieteikumu iesniegšanas reģistrējas sistēmā, saņemot īpašu kodu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Turpmākajos pieteikumos jāuzrāda šis kods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Nav nepieciešams papīra formas pieteiku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ffffff"/>
                </a:solidFill>
                <a:latin typeface="Calibri"/>
              </a:rPr>
              <a:t>No Mūžizglītības programmas uz </a:t>
            </a:r>
            <a:r>
              <a:rPr b="1" i="1" lang="lv-LV" sz="3600" spc="-1" strike="noStrike">
                <a:solidFill>
                  <a:srgbClr val="ffffff"/>
                </a:solidFill>
                <a:latin typeface="Calibri"/>
              </a:rPr>
              <a:t>Erasmus+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Rīga, 2013.g. 22.novemb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5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Termiņ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teikumu iesniegšana 1 x gad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eteikumu iesniegšanas pēdējā diena 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2013.gada 17.mart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līdz 12:00 pēc Briseles laika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Mobilitātes var sākties no 2013.gada 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1.jūlij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Erasmus+_vect_POS.jpg"/>
          <p:cNvPicPr/>
          <p:nvPr/>
        </p:nvPicPr>
        <p:blipFill>
          <a:blip r:embed="rId1"/>
          <a:stretch/>
        </p:blipFill>
        <p:spPr>
          <a:xfrm>
            <a:off x="6084720" y="623736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39280" y="847440"/>
            <a:ext cx="82076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ffffff"/>
                </a:solidFill>
                <a:latin typeface="Calibri"/>
                <a:ea typeface="Arial"/>
              </a:rPr>
              <a:t>Pieteikuma izstrādei nepieciešamie dokumen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55640" y="1557000"/>
            <a:ext cx="77040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Erasmus + Programme Guide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par_macibu_mobilitatem/?tl_id=21447&amp;tls_id=130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Vadlīnijas organizāciju reģistrācijai URF sistēmā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par_macibu_mobilitatem/?tl_id=21447&amp;tls_id=1304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ieteikuma veidlapa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par_macibu_mobilitatem/?tl_id=21447&amp;tls_id=1304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Paldies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Vairāk informācija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ttp://ec.europa.eu/erasmus-pl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</a:rPr>
              <a:t>http://www.viaa.gov.lv/lat/muzizglitibas_programma/erasmus_plus/erasmus_plus_about/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</a:rPr>
              <a:t>Jana Meržvinsk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Comenius un Mācību braucienu nodaļas vecākā speciālis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Jana.merzvinska@viaa.gov.l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el. 6735907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9280" y="-100440"/>
            <a:ext cx="8507520" cy="152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Ceļš uz </a:t>
            </a:r>
            <a:r>
              <a:rPr b="1" i="1" lang="lv-LV" sz="4400" spc="-1" strike="noStrike">
                <a:solidFill>
                  <a:srgbClr val="ffffff"/>
                </a:solidFill>
                <a:latin typeface="Calibri"/>
              </a:rPr>
              <a:t>Erasmus+</a:t>
            </a: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 program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39640" y="155736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1.g.novembris: Eiropas Komisija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iesniedza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EP Izglītības un kultūras komitejai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priekšlikumu regulai programmas “</a:t>
            </a:r>
            <a:r>
              <a:rPr b="1" i="1" lang="lv-LV" sz="2600" spc="-1" strike="noStrike">
                <a:solidFill>
                  <a:srgbClr val="000000"/>
                </a:solidFill>
                <a:latin typeface="Calibri"/>
              </a:rPr>
              <a:t>Erasmus for All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" izveidei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laika posmam 2014. -2020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2.g.maijs: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Apspriešana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 Eiropas Padomē. ES valstu izglītības ministri provizoriski atbalsta  EK priekšlikumu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2.g.jūlijs-novembr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Apspriešana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 Eiropas Parlamenta Kultūras un Izglītības komitejā, deputāti sniedz 273 priekšlikumu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17375e"/>
                </a:solidFill>
                <a:latin typeface="Calibri"/>
              </a:rPr>
              <a:t>    </a:t>
            </a: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Ceļš uz </a:t>
            </a:r>
            <a:r>
              <a:rPr b="1" i="1" lang="lv-LV" sz="4400" spc="-1" strike="noStrike">
                <a:solidFill>
                  <a:srgbClr val="ffffff"/>
                </a:solidFill>
                <a:latin typeface="Calibri"/>
              </a:rPr>
              <a:t>Erasmus+</a:t>
            </a: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 programm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9280" y="1773000"/>
            <a:ext cx="814716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3.g.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Turpinās konsultācijas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starp Eiropas Padomi, Parlamentu un Eiropas Komisij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2013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</a:rPr>
              <a:t>.g.19.novembris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programma un budžets apstiprināti Eiropas Parlamentā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3.g.decembris: sagaidāma pieņemšana Padomē (dalībvalstis) un </a:t>
            </a:r>
            <a:r>
              <a:rPr b="0" i="1" lang="lv-LV" sz="2600" spc="-1" strike="noStrike">
                <a:solidFill>
                  <a:srgbClr val="000000"/>
                </a:solidFill>
                <a:latin typeface="Calibri"/>
              </a:rPr>
              <a:t>Erasmus+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 regulas publicēšana EU oficiālajā vēstnesī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4.g.1.janvāri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Erasmus+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sāk savu darbīb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2014.g.janvāris: tiek publicētas </a:t>
            </a:r>
            <a:r>
              <a:rPr b="0" i="1" lang="lv-LV" sz="2600" spc="-1" strike="noStrike">
                <a:solidFill>
                  <a:srgbClr val="000000"/>
                </a:solidFill>
                <a:latin typeface="Calibri"/>
              </a:rPr>
              <a:t>Erasmus+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</a:rPr>
              <a:t> vadlīnijas pretendentiem, sākas pieteikumu iesniegšanas proce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62864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3600" spc="-1" strike="noStrike">
                <a:solidFill>
                  <a:srgbClr val="ffffff"/>
                </a:solidFill>
                <a:latin typeface="Calibri"/>
              </a:rPr>
              <a:t>Erasmus+</a:t>
            </a:r>
            <a:r>
              <a:rPr b="1" lang="lv-LV" sz="3600" spc="-1" strike="noStrike">
                <a:solidFill>
                  <a:srgbClr val="ffffff"/>
                </a:solidFill>
                <a:latin typeface="Calibri"/>
              </a:rPr>
              <a:t> mērķi: </a:t>
            </a:r>
            <a:r>
              <a:rPr b="1" lang="lv-LV" sz="2800" spc="-1" strike="noStrike">
                <a:solidFill>
                  <a:srgbClr val="ffffff"/>
                </a:solidFill>
                <a:latin typeface="Calibri"/>
              </a:rPr>
              <a:t>programma  saistīta ar Eiropas politiskajiem mērķiem</a:t>
            </a:r>
            <a:br>
              <a:rPr sz="3600"/>
            </a:br>
            <a:r>
              <a:rPr b="1" lang="en-US" sz="3600" spc="-1" strike="noStrike">
                <a:solidFill>
                  <a:srgbClr val="17375e"/>
                </a:solidFill>
                <a:latin typeface="Calibri"/>
              </a:rPr>
              <a:t> </a:t>
            </a:r>
            <a:br>
              <a:rPr sz="3600"/>
            </a:br>
            <a:r>
              <a:rPr b="1" lang="lv-LV" sz="4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560" y="1628280"/>
            <a:ext cx="87850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Eiropa 2020 mērķi izglītībā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kolu nebeigušo un izglītošanos pāragri pārtraukušo jauniešu īpatsvars jāsamazina zem 10% robež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ismaz 40% cilvēku vecumā no 30 līdz 34 gadiem jāiegūst augstākā izglītīb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ET 2020 stratēģi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balsts jaunatnes stratēģijai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2010-2018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Atbalsts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sport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tarptautiskās dimensijas nodrošināšana izglītībā īpaši augstākā izglītībā un jaunatnes jom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Izglītība un apmācība 20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700280"/>
            <a:ext cx="864072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amazināt jauniešu ar sliktu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lasītprasmi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un zemām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matemātikas un dabas zinātņu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zināšanām īpatsvaru, lai tas būtu mazāks par 15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Samazināt jauniešu, kas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priekšlaicīgi pamet izglītību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, skaitu, lai tas būtu mazāks par 10%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Nodrošināt, lai vismaz 95% bērnu vecumā no 4 gadiem līdz skolas uzsākšanai piedalās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pirmsskolas i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zglītīb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aaugstināt atbalstu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skolotājiem, skolu vadītājiem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un skolotāju sagatavotājiem, viņu kvalitatīvai sagatavošanai un </a:t>
            </a: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izglītošana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4"/>
          <p:cNvSpPr/>
          <p:nvPr/>
        </p:nvSpPr>
        <p:spPr>
          <a:xfrm>
            <a:off x="3132000" y="6356520"/>
            <a:ext cx="2448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178920" y="1773000"/>
            <a:ext cx="85186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 u="sng">
                <a:solidFill>
                  <a:srgbClr val="376092"/>
                </a:solidFill>
                <a:uFillTx/>
                <a:latin typeface="Calibri"/>
              </a:rPr>
              <a:t>Trīs galvenie darbības virzieni </a:t>
            </a:r>
            <a:r>
              <a:rPr b="0" lang="lv-LV" sz="2800" spc="-1" strike="noStrike" u="sng">
                <a:solidFill>
                  <a:srgbClr val="376092"/>
                </a:solidFill>
                <a:uFillTx/>
                <a:latin typeface="Calibri"/>
              </a:rPr>
              <a:t>(</a:t>
            </a:r>
            <a:r>
              <a:rPr b="0" i="1" lang="lv-LV" sz="2800" spc="-1" strike="noStrike" u="sng">
                <a:solidFill>
                  <a:srgbClr val="376092"/>
                </a:solidFill>
                <a:uFillTx/>
                <a:latin typeface="Calibri"/>
              </a:rPr>
              <a:t>Key Actions</a:t>
            </a:r>
            <a:r>
              <a:rPr b="0" lang="lv-LV" sz="2800" spc="-1" strike="noStrike" u="sng">
                <a:solidFill>
                  <a:srgbClr val="376092"/>
                </a:solidFill>
                <a:uFillTx/>
                <a:latin typeface="Calibri"/>
              </a:rPr>
              <a:t>)</a:t>
            </a:r>
            <a:r>
              <a:rPr b="0" lang="lv-LV" sz="2800" spc="-1" strike="noStrike">
                <a:solidFill>
                  <a:srgbClr val="376092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Mācību mobilitāte – KA1. </a:t>
            </a:r>
            <a:r>
              <a:rPr b="0" lang="lv-LV" sz="2800" spc="-1" strike="noStrike">
                <a:solidFill>
                  <a:srgbClr val="376092"/>
                </a:solidFill>
                <a:latin typeface="Calibri"/>
              </a:rPr>
              <a:t>Ap 65% no programmas finansējum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Stratēģiskās partnerības – sadarbība inovācijas un labas prakses veicināšanai – KA2. </a:t>
            </a:r>
            <a:r>
              <a:rPr b="0" lang="lv-LV" sz="2800" spc="-1" strike="noStrike">
                <a:solidFill>
                  <a:srgbClr val="376092"/>
                </a:solidFill>
                <a:latin typeface="Calibri"/>
              </a:rPr>
              <a:t>Ap 25% no programmas finansējum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37609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lv-LV" sz="2800" spc="-1" strike="noStrike">
                <a:solidFill>
                  <a:srgbClr val="376092"/>
                </a:solidFill>
                <a:latin typeface="Calibri"/>
              </a:rPr>
              <a:t>Atbalsts izglītības politikas reformām – KA3.</a:t>
            </a:r>
            <a:r>
              <a:rPr b="0" lang="lv-LV" sz="2800" spc="-1" strike="noStrike">
                <a:solidFill>
                  <a:srgbClr val="376092"/>
                </a:solidFill>
                <a:latin typeface="Calibri"/>
              </a:rPr>
              <a:t> Ap 4% no programmas finansējum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Programmas struktū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Kādas valstis piedalā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</a:rPr>
              <a:t>Programmas valsti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ES dalībvalst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Maķedonija, Turcija, Lihtenšteina, Norvēģija, Islande, Šve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Partnervalsti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Rietumbalkāni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Austrumu partnerības valst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Vidusjūras valsti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Krievi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Āzija un Centrālāzija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</a:rPr>
              <a:t>Latīņamerika u.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915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ffffff"/>
                </a:solidFill>
                <a:latin typeface="Calibri"/>
              </a:rPr>
              <a:t>Skolu izglītība: galvenās aktivitā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2060280"/>
            <a:ext cx="8147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Pirmsskolas un skolas personāla </a:t>
            </a: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mācību mobilitā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Stratēģiskās partnerības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sadarbībai starp skolām, vietējām pašvaldībām un citu sektoru institūcijā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0000"/>
                </a:solidFill>
                <a:latin typeface="Calibri"/>
              </a:rPr>
              <a:t>eTwinning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: tiešsaistes platforma skolu un skolotāju atbalst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ooter Placeholder 4"/>
          <p:cNvSpPr/>
          <p:nvPr/>
        </p:nvSpPr>
        <p:spPr>
          <a:xfrm>
            <a:off x="3203640" y="638172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Valmierā, 2014. gada 28. janvār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Erasmus+_vect_POS.jpg"/>
          <p:cNvPicPr/>
          <p:nvPr/>
        </p:nvPicPr>
        <p:blipFill>
          <a:blip r:embed="rId1"/>
          <a:stretch/>
        </p:blipFill>
        <p:spPr>
          <a:xfrm>
            <a:off x="5856120" y="6165720"/>
            <a:ext cx="15955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2T14:40:03Z</dcterms:created>
  <dc:creator>ieva.lorence</dc:creator>
  <dc:description/>
  <dc:language>en-US</dc:language>
  <cp:lastModifiedBy>Jana.Merzvinska</cp:lastModifiedBy>
  <dcterms:modified xsi:type="dcterms:W3CDTF">2014-01-24T12:32:07Z</dcterms:modified>
  <cp:revision>11</cp:revision>
  <dc:subject/>
  <dc:title>Slide 1</dc:title>
</cp:coreProperties>
</file>