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607-DC08-442C-88A7-6DFB8438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ABC-7F8C-4ECB-8EBD-DD7BFFB8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9E9-9506-446F-82A2-133083D0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653-9D90-4FB0-B414-3192376D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2BC-0623-4AC5-AEFF-6AD70167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856-262C-406E-9B1A-8024B65B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200-532B-4B40-BE38-6F4EEAFC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B35-E780-4ED2-B81F-623D4E5D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6000" y="18864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5F6-4054-4911-8B47-2239207F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F40-F8DD-4EED-A63E-409CC7E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1A8-10C8-4729-B7F6-99461A7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C68-AF9C-4618-9F5C-F011241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D6F5D-EE37-4487-AFA0-48E710499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5AFE4-BCEE-46C3-AF58-275939E18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GRISIplus_without"/>
          <p:cNvPicPr/>
          <p:nvPr/>
        </p:nvPicPr>
        <p:blipFill>
          <a:blip r:embed="rId2"/>
          <a:stretch/>
        </p:blipFill>
        <p:spPr>
          <a:xfrm>
            <a:off x="0" y="0"/>
            <a:ext cx="1187280" cy="677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Slika4"/>
          <p:cNvPicPr/>
          <p:nvPr/>
        </p:nvPicPr>
        <p:blipFill>
          <a:blip r:embed="rId3"/>
          <a:srcRect l="0" t="2546" r="88417" b="0"/>
          <a:stretch/>
        </p:blipFill>
        <p:spPr>
          <a:xfrm>
            <a:off x="0" y="5867280"/>
            <a:ext cx="800280" cy="99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Slika4"/>
          <p:cNvPicPr/>
          <p:nvPr/>
        </p:nvPicPr>
        <p:blipFill>
          <a:blip r:embed="rId4"/>
          <a:srcRect l="88417" t="0" r="0" b="2546"/>
          <a:stretch/>
        </p:blipFill>
        <p:spPr>
          <a:xfrm>
            <a:off x="8344080" y="0"/>
            <a:ext cx="7999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GRISI glava_PRAV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752480"/>
            <a:ext cx="7215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lv-LV" sz="4000" spc="-1" strike="noStrike">
                <a:solidFill>
                  <a:srgbClr val="f79646"/>
                </a:solidFill>
                <a:latin typeface="Calibri"/>
              </a:rPr>
              <a:t>“</a:t>
            </a:r>
            <a:r>
              <a:rPr b="1" lang="lv-LV" sz="3200" spc="-1" strike="noStrike">
                <a:solidFill>
                  <a:srgbClr val="f79646"/>
                </a:solidFill>
                <a:latin typeface="Calibri"/>
              </a:rPr>
              <a:t>GRISI Plus labo prakšu pārņemšana Vidzemē – iespējas un izaicinājumi”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46" name="Picture 11" descr="GRISI noga z logoji_PRAVA za ppt.jpg"/>
          <p:cNvPicPr/>
          <p:nvPr/>
        </p:nvPicPr>
        <p:blipFill>
          <a:blip r:embed="rId2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898989"/>
                </a:solidFill>
                <a:latin typeface="Calibri"/>
              </a:rPr>
              <a:t>Gatis Pāvi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898989"/>
                </a:solidFill>
                <a:latin typeface="Calibri"/>
              </a:rPr>
              <a:t>Mārcienas muiža, 28.11.2013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Pašvaldības ieguvums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A396C-297E-4E40-900D-05EF8BE6E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Jaunas darba vietas = nodokļu ieņēm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Atpazīstamības veicināšana = tūrisma attīstī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Atbalsts saviem uzņēmējiem = pašvaldības prestiž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Inovācij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Projektu piesaistī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Uzticams sadarbības partne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Anda.Eihenbauma\Pictures\Local.jpg"/>
          <p:cNvPicPr/>
          <p:nvPr/>
        </p:nvPicPr>
        <p:blipFill>
          <a:blip r:embed="rId1"/>
          <a:stretch/>
        </p:blipFill>
        <p:spPr>
          <a:xfrm>
            <a:off x="900000" y="4437000"/>
            <a:ext cx="2100240" cy="21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mommifried.com/wp-content/uploads/2012/11/Keep-It-Local-Logo-Concepts.gif"/>
          <p:cNvPicPr/>
          <p:nvPr/>
        </p:nvPicPr>
        <p:blipFill>
          <a:blip r:embed="rId2"/>
          <a:stretch/>
        </p:blipFill>
        <p:spPr>
          <a:xfrm>
            <a:off x="4788000" y="3071880"/>
            <a:ext cx="32115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Rekomendācijas - 1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2FD6F-EE9F-45C4-9FFE-D1C2CCAA1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Nav gaidāma īpaši augsta popularitāte, ir jākoncentrējas uz informācijas izplatīšanu citiem resursiem (</a:t>
            </a:r>
            <a:r>
              <a:rPr b="0" i="1" lang="lv-LV" sz="2400" spc="-1" strike="noStrike">
                <a:solidFill>
                  <a:srgbClr val="7f7f7f"/>
                </a:solidFill>
                <a:latin typeface="Calibri"/>
              </a:rPr>
              <a:t>Foursquare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i="1" lang="lv-LV" sz="2400" spc="-1" strike="noStrike">
                <a:solidFill>
                  <a:srgbClr val="7f7f7f"/>
                </a:solidFill>
                <a:latin typeface="Calibri"/>
              </a:rPr>
              <a:t>Pinterest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u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Jāizvērtē, vai veidot attālās tirdzniecības pakalpoju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Vēlams izmantot atvērtā koda programmatūru, satura vadības sistēm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Īpaša uzmanība pievēršama produkcijas attēliem. Attēliem jāizmanto </a:t>
            </a:r>
            <a:r>
              <a:rPr b="0" i="1" lang="lv-LV" sz="2400" spc="-1" strike="noStrike">
                <a:solidFill>
                  <a:srgbClr val="7f7f7f"/>
                </a:solidFill>
                <a:latin typeface="Calibri"/>
              </a:rPr>
              <a:t>Common Creatives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lic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Rekomendācijas - 2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F6D4F-390D-4F5C-BFAF-DF1FC4ED3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Jāizveido un jāuztur informācijas kvalitātes uzraudzības sistēma, t.sk. iepriekš jāapzina, kā novērst intereses atslābumu, kas gaidāms kādu laiku pēc resursa izve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Bez mārketinga nebūs panākumu. Jāizma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MS PGothic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MS PGothic"/>
              </a:rPr>
              <a:t>paši uzņēmēj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MS PGothic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MS PGothic"/>
              </a:rPr>
              <a:t>sociālie tīk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MS PGothic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MS PGothic"/>
              </a:rPr>
              <a:t>pasākum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MS PGothic"/>
              </a:rPr>
              <a:t>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MS PGothic"/>
              </a:rPr>
              <a:t>citas virālā mārketinga met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79646"/>
                </a:solidFill>
                <a:latin typeface="Calibri"/>
                <a:ea typeface="Arial"/>
              </a:rPr>
              <a:t>Soho Solo </a:t>
            </a:r>
            <a:r>
              <a:rPr b="1" lang="lv-LV" sz="1800" spc="-1" strike="noStrike">
                <a:solidFill>
                  <a:srgbClr val="f79646"/>
                </a:solidFill>
                <a:latin typeface="Calibri"/>
                <a:ea typeface="Arial"/>
              </a:rPr>
              <a:t>(Francija) </a:t>
            </a:r>
            <a:r>
              <a:rPr b="1" lang="lv-LV" sz="2000" spc="-1" strike="noStrike">
                <a:solidFill>
                  <a:srgbClr val="7f7f7f"/>
                </a:solidFill>
                <a:latin typeface="Calibri"/>
                <a:ea typeface="Arial"/>
              </a:rPr>
              <a:t>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lv-LV" sz="2000" spc="-1" strike="noStrike">
                <a:solidFill>
                  <a:srgbClr val="000000"/>
                </a:solidFill>
                <a:latin typeface="Garamond"/>
              </a:rPr>
              <a:t>://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www.soho-solo-gers.com</a:t>
            </a:r>
            <a:r>
              <a:rPr b="0" lang="lv-LV" sz="2000" spc="-1" strike="noStrike">
                <a:solidFill>
                  <a:srgbClr val="000000"/>
                </a:solidFill>
                <a:latin typeface="Garamond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Lauku (Žēras departaments) pievilcības stiprināšana, ar jaunajām IKT veicinot jaunu iedzīvotāju piesaisti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Internetā bāzēta un pašvaldības atbalstīta vietējo uzņēmēju un topošo uzņēmēju «klubiņa» attīstība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Veicina attālinātā darba attīstību, bet -  ne tikai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  <a:ea typeface="Arial"/>
              </a:rPr>
              <a:t>Labās prakses piemērs Nr.2.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97" name="Picture 2" descr="C:\GataDarbi\Geomatika\Vizuali\SohoSolo.jpg"/>
          <p:cNvPicPr/>
          <p:nvPr/>
        </p:nvPicPr>
        <p:blipFill>
          <a:blip r:embed="rId1"/>
          <a:stretch/>
        </p:blipFill>
        <p:spPr>
          <a:xfrm>
            <a:off x="4859280" y="4005360"/>
            <a:ext cx="3475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Galvenās sadaļa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dzīve = atbalsts tiem, kas vēlas pārcelties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darbs sev pašam = kā uzsākt savu uzņēmējdarbību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īpašas atbalsta aktivitātes uzņēmējie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  <a:ea typeface="Arial"/>
              </a:rPr>
              <a:t>Soho Solo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00" name="Picture 2" descr="C:\GataDarbi\Geomatika\Vizuali\SohoSolo1.jpg"/>
          <p:cNvPicPr/>
          <p:nvPr/>
        </p:nvPicPr>
        <p:blipFill>
          <a:blip r:embed="rId1"/>
          <a:stretch/>
        </p:blipFill>
        <p:spPr>
          <a:xfrm>
            <a:off x="179280" y="2743200"/>
            <a:ext cx="887580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«Viesmīlības ciemi»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Francijā: lauku kopienu kustība, kas sniedz atbalstu jaunpienācējiem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Žēras departamentā – 47 viesmīlības ciemi, kuru iedzīvotāji sniedz jaunpienācējiem atbalstu gan iekārtojot personisko dzīvi, gan uzņēmējdarbībā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«Soho Solo» sniedz informācij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par pieejamo infrastruktūru katrā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ciemā, par projektiem, p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«viesmīlības komiteju»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Villages d'accueil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03" name="Picture 2" descr="C:\GataDarbi\Geomatika\Vizuali\accueil.jpg"/>
          <p:cNvPicPr/>
          <p:nvPr/>
        </p:nvPicPr>
        <p:blipFill>
          <a:blip r:embed="rId1"/>
          <a:stretch/>
        </p:blipFill>
        <p:spPr>
          <a:xfrm>
            <a:off x="5003640" y="3284640"/>
            <a:ext cx="36370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Iespējamais pilotprojekts – Ērgļu novad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Attālinātais darbs – viena no novada attīstības iespējām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Adrese www.ergli.eu joprojām brīva, ir arī citi varianti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Mērķi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uz kartes apkopot informāciju par esošajiem uzņēmējiem novadā un uzņēmējdarbības iespējām, nosacījumiem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sniegt atbalstu potenciālajiem Ērgļu novada iedzīvotājiem jau pirms viņu ierašanās novadā, t.sk. par nekustamo īpašumu, esošajiem pakalpojumi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pārliecināt, ka Ērgļos var veikt attālināto darbu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Līdzīga iniciatīva Latvijā?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99,9% panākumu atkarīgi nevis no vietnes dizaina, bet no cilvēkiem un organizācijām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Pašvaldība: iniciators un galvenais «vilcējspēks»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Labākais arguments: informācija par pieejamām dzīves vietām un infrastruktūru, salīdzinot to izmaksas, piemēram, ar Rīgu / Pierīgu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Nepieciešamas vietējās atbalsta biedrības, vēlams, ar uzņēmēju līdzdalību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Jāvērtē iespēja veidot «viesmīlības ciemus»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Jāizvērtē vēlmes un iespēja piesaistīt ārvalstu imigrantus. Šī ir iespēja viņus izvēlēti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Rekomendācijas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200" spc="-1" strike="noStrike">
                <a:solidFill>
                  <a:srgbClr val="7f7f7f"/>
                </a:solidFill>
                <a:latin typeface="Calibri"/>
                <a:ea typeface="Arial"/>
              </a:rPr>
              <a:t>Jau veidojot interneta vietni, jāplāno tās popularizācija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200" spc="-1" strike="noStrike">
                <a:solidFill>
                  <a:srgbClr val="7f7f7f"/>
                </a:solidFill>
                <a:latin typeface="Calibri"/>
                <a:ea typeface="Arial"/>
              </a:rPr>
              <a:t>Iespēja lietot virtuālo mārketingu, ideja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rakstu cikls, kurā radošo profesiju pārstāvji salīdzina dzīves izmaksas un iespējas Ērgļos un Pierīgā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«viesmīlības ciemu» kustības pionieri Latvijā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  <a:ea typeface="Arial"/>
              </a:rPr>
              <a:t>u.c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Rekomendācijas - 2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lv-LV" sz="2400" spc="-1" strike="noStrike">
                <a:solidFill>
                  <a:srgbClr val="7f7f7f"/>
                </a:solidFill>
                <a:latin typeface="Calibri"/>
              </a:rPr>
              <a:t>Gatis Pāvils</a:t>
            </a:r>
            <a:br>
              <a:rPr sz="2400"/>
            </a:b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SIA «NK Konsultāciju birojs»</a:t>
            </a:r>
            <a:br>
              <a:rPr sz="2400"/>
            </a:b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Tel</a:t>
            </a:r>
            <a:r>
              <a:rPr b="0" lang="tr-TR" sz="2400" spc="-1" strike="noStrike">
                <a:solidFill>
                  <a:srgbClr val="7f7f7f"/>
                </a:solidFill>
                <a:latin typeface="Calibri"/>
              </a:rPr>
              <a:t>.: +371 26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340035</a:t>
            </a:r>
            <a:br>
              <a:rPr sz="2400"/>
            </a:br>
            <a:r>
              <a:rPr b="0" lang="tr-TR" sz="2400" spc="-1" strike="noStrike">
                <a:solidFill>
                  <a:srgbClr val="7f7f7f"/>
                </a:solidFill>
                <a:latin typeface="Calibri"/>
              </a:rPr>
              <a:t>E-pasts: 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gatis.pavils@nkconsulting.lv</a:t>
            </a:r>
            <a:br>
              <a:rPr sz="2400"/>
            </a:br>
            <a:endParaRPr b="1" lang="en-US" sz="24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592600" y="616572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7f7f7f"/>
                </a:solidFill>
                <a:latin typeface="Calibri"/>
              </a:rPr>
              <a:t>Mārcienas muiža, 28.11.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  <a:ea typeface="Arial"/>
              </a:rPr>
              <a:t>Mērķis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Pilnveidot attīstības politiku lauku teritorijās, izmantojot jaunās informācijas un komunikāciju tehnoloģijas (ar uzsvaru uz ģeomātikas rīkiem un ģeogrāfiskās informācijas sistēmām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7f7f7f"/>
                </a:solidFill>
                <a:latin typeface="Calibri"/>
                <a:ea typeface="Arial"/>
              </a:rPr>
              <a:t>Ģeomātika = prakse, kuras ietvaros tiek veidoti, vākti un izmantoti dati, kam ir ģeogrāfiska piesais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 u="sng">
                <a:solidFill>
                  <a:srgbClr val="7f7f7f"/>
                </a:solidFill>
                <a:uFillTx/>
                <a:latin typeface="Calibri"/>
                <a:ea typeface="Arial"/>
              </a:rPr>
              <a:t>Praktiski</a:t>
            </a: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: kā ar interneta + karšu palīdzību attīstīt uzņēmējdarbību laukos un piesaistīt jaunus iedzīvotāju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  <a:ea typeface="Arial"/>
              </a:rPr>
              <a:t>Globālas pārmaiņas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1990.gads: sāk attīstīties Vispasaules tīmeklis. 2012.gada jūnijā ikdienā lieto ~ 2,4 miljardi cilvēku (1/3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v-LV" sz="2000" spc="-1" strike="noStrike">
                <a:solidFill>
                  <a:srgbClr val="7f7f7f"/>
                </a:solidFill>
                <a:latin typeface="Calibri"/>
                <a:ea typeface="Arial"/>
              </a:rPr>
              <a:t>Savas agrākās pozīcijas zaudē pasts, televīzija, drukātā prese, krasi mainās reklāma, mārketing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v-LV" sz="2000" spc="-1" strike="noStrike">
                <a:solidFill>
                  <a:srgbClr val="7f7f7f"/>
                </a:solidFill>
                <a:latin typeface="Calibri"/>
                <a:ea typeface="Arial"/>
              </a:rPr>
              <a:t>Uzņēmējdarbības atrašanās vietai mazāka nozīm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v-LV" sz="2000" spc="-1" strike="noStrike">
                <a:solidFill>
                  <a:srgbClr val="7f7f7f"/>
                </a:solidFill>
                <a:latin typeface="Calibri"/>
                <a:ea typeface="Arial"/>
              </a:rPr>
              <a:t>Krasi mainās tīmekļa lietošanas paradumi, gaidāma noslāņošanā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2008.gada beigas: planētas pilsētnieku skaits pārsniedz laukos dzīvojošo skaitu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v-LV" sz="2000" spc="-1" strike="noStrike">
                <a:solidFill>
                  <a:srgbClr val="7f7f7f"/>
                </a:solidFill>
                <a:latin typeface="Calibri"/>
                <a:ea typeface="Arial"/>
              </a:rPr>
              <a:t>Metropoļu nozīme pieaug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v-LV" sz="2000" spc="-1" strike="noStrike">
                <a:solidFill>
                  <a:srgbClr val="7f7f7f"/>
                </a:solidFill>
                <a:latin typeface="Calibri"/>
                <a:ea typeface="Arial"/>
              </a:rPr>
              <a:t>Laukos aizvien mazāk darbavietu, pieaug lauku dzīves dārdzība un skepse par nepieciešamību veidot / uzturēt infrastruktūru lauko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50.tinypic.com/2u5s3zt.png"/>
          <p:cNvPicPr/>
          <p:nvPr/>
        </p:nvPicPr>
        <p:blipFill>
          <a:blip r:embed="rId1"/>
          <a:stretch/>
        </p:blipFill>
        <p:spPr>
          <a:xfrm>
            <a:off x="3348000" y="2655720"/>
            <a:ext cx="5477040" cy="389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  <a:ea typeface="Arial"/>
              </a:rPr>
              <a:t>Pārmaiņu vadība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Neviena tendence neturpinās bezgalīgi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Herberta Šteina likums: «Ja kaut kas nevar turpināties mūžīgi, tas apstājas». </a:t>
            </a:r>
            <a:r>
              <a:rPr b="1" lang="lv-LV" sz="1400" spc="-1" strike="noStrike">
                <a:solidFill>
                  <a:srgbClr val="7f7f7f"/>
                </a:solidFill>
                <a:latin typeface="Calibri"/>
                <a:ea typeface="Arial"/>
              </a:rPr>
              <a:t>Vai lauki var apstāties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Jebkurš izaicinājums slēpj sevī iespēja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Vienmēr v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atrast vēla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rīcības model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Ir «tikai» jāmeklē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labus piemēru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002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79646"/>
                </a:solidFill>
                <a:latin typeface="Calibri"/>
                <a:ea typeface="Arial"/>
              </a:rPr>
              <a:t>Made in Galway </a:t>
            </a:r>
            <a:r>
              <a:rPr b="1" lang="lv-LV" sz="1800" spc="-1" strike="noStrike">
                <a:solidFill>
                  <a:srgbClr val="f79646"/>
                </a:solidFill>
                <a:latin typeface="Calibri"/>
                <a:ea typeface="Arial"/>
              </a:rPr>
              <a:t>(Īrija) </a:t>
            </a:r>
            <a:r>
              <a:rPr b="1" lang="lv-LV" sz="2000" spc="-1" strike="noStrike">
                <a:solidFill>
                  <a:srgbClr val="7f7f7f"/>
                </a:solidFill>
                <a:latin typeface="Calibri"/>
                <a:ea typeface="Arial"/>
              </a:rPr>
              <a:t>– </a:t>
            </a:r>
            <a:r>
              <a:rPr b="0" lang="lv-LV" sz="2000" spc="-1" strike="noStrike">
                <a:solidFill>
                  <a:srgbClr val="7f7f7f"/>
                </a:solidFill>
                <a:latin typeface="Calibri"/>
                <a:ea typeface="Arial"/>
              </a:rPr>
              <a:t>http://www.madeingalway.ie/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 u="sng">
                <a:solidFill>
                  <a:srgbClr val="7f7f7f"/>
                </a:solidFill>
                <a:uFillTx/>
                <a:latin typeface="Calibri"/>
                <a:ea typeface="Arial"/>
              </a:rPr>
              <a:t>Mērķis:</a:t>
            </a: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 popularizēt Galvejas reģiona amatnieku / mākslinieku produkciju, veicināt tās noiet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Pašvaldības iniciatīv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Vietējās identitātes stiprināšana caur produkcij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Kartogrāfiski risinājum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Facebook = 1 212 «Like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  <a:ea typeface="Arial"/>
              </a:rPr>
              <a:t>Twitter = 2 292 sekotāj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446800" y="3573360"/>
            <a:ext cx="3244680" cy="187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  <a:ea typeface="Arial"/>
              </a:rPr>
              <a:t>Labās prakses piemērs Nr.1.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C0067-4811-4F65-9356-721BE91EB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C:\Users\Anda.Eihenbauma\Desktop\Galway.jpg"/>
          <p:cNvPicPr/>
          <p:nvPr/>
        </p:nvPicPr>
        <p:blipFill>
          <a:blip r:embed="rId1"/>
          <a:stretch/>
        </p:blipFill>
        <p:spPr>
          <a:xfrm>
            <a:off x="0" y="979560"/>
            <a:ext cx="9144000" cy="5376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735280" cy="1584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"/>
          <p:cNvSpPr/>
          <p:nvPr/>
        </p:nvSpPr>
        <p:spPr>
          <a:xfrm>
            <a:off x="2556000" y="4292640"/>
            <a:ext cx="633708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6F9C5-0E79-4AF4-96F8-310C54C8D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“</a:t>
            </a: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RAŽOTS VIDZEMĒ”?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</a:rPr>
              <a:t>KONCEPCIJA – pārņemt “Made in Galway” ideju Vidzemē ražotu pārtikas produktu popularizēšan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400" spc="-1" strike="noStrike">
                <a:solidFill>
                  <a:srgbClr val="7f7f7f"/>
                </a:solidFill>
                <a:latin typeface="Calibri"/>
              </a:rPr>
              <a:t>Sadarbības partneris/ idejas turētājs: </a:t>
            </a:r>
            <a:r>
              <a:rPr b="1" lang="lv-LV" sz="2400" spc="-1" strike="noStrike" u="sng">
                <a:solidFill>
                  <a:srgbClr val="7f7f7f"/>
                </a:solidFill>
                <a:uFillTx/>
                <a:latin typeface="Calibri"/>
              </a:rPr>
              <a:t>Vidzemes augstvērtīgas un veselīgas pārtikas klaste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7f7f7f"/>
                </a:solidFill>
                <a:latin typeface="Calibri"/>
              </a:rPr>
              <a:t>(šobrīd 23 dalībnie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28760" y="4027320"/>
            <a:ext cx="3495600" cy="23292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www.mammamuntetiem.lv/userfiles/images/very_berry/VeryBerry-Sastavdalas-Logo.jpg"/>
          <p:cNvPicPr/>
          <p:nvPr/>
        </p:nvPicPr>
        <p:blipFill>
          <a:blip r:embed="rId2"/>
          <a:stretch/>
        </p:blipFill>
        <p:spPr>
          <a:xfrm>
            <a:off x="3924360" y="4221000"/>
            <a:ext cx="1990800" cy="210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http://www.onkulis.com/wp-content/uploads/2009/09/logo.gif"/>
          <p:cNvPicPr/>
          <p:nvPr/>
        </p:nvPicPr>
        <p:blipFill>
          <a:blip r:embed="rId3"/>
          <a:stretch/>
        </p:blipFill>
        <p:spPr>
          <a:xfrm>
            <a:off x="6145200" y="3213000"/>
            <a:ext cx="2038320" cy="1200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http://www.autofotoorientesanas.lv/userfiles/image/2011-3/kelmeni.jpg"/>
          <p:cNvPicPr/>
          <p:nvPr/>
        </p:nvPicPr>
        <p:blipFill>
          <a:blip r:embed="rId4"/>
          <a:stretch/>
        </p:blipFill>
        <p:spPr>
          <a:xfrm>
            <a:off x="4200480" y="3706920"/>
            <a:ext cx="1714680" cy="5140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2" descr="http://www.dimdini.lv/data/img/20090807145143771338_head.jpg"/>
          <p:cNvPicPr/>
          <p:nvPr/>
        </p:nvPicPr>
        <p:blipFill>
          <a:blip r:embed="rId5"/>
          <a:stretch/>
        </p:blipFill>
        <p:spPr>
          <a:xfrm>
            <a:off x="6021360" y="4653000"/>
            <a:ext cx="2665440" cy="806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http://cleantechlatvia.com/wp-content/themes/cleantech/images/blogo/sigra.jpg"/>
          <p:cNvPicPr/>
          <p:nvPr/>
        </p:nvPicPr>
        <p:blipFill>
          <a:blip r:embed="rId6"/>
          <a:stretch/>
        </p:blipFill>
        <p:spPr>
          <a:xfrm>
            <a:off x="6053040" y="5546880"/>
            <a:ext cx="1000080" cy="809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https://twimg0-a.akamaihd.net/profile_images/2648213848/551b571b648c1f0af5d7ea61a27288c7.jpeg"/>
          <p:cNvPicPr/>
          <p:nvPr/>
        </p:nvPicPr>
        <p:blipFill>
          <a:blip r:embed="rId7"/>
          <a:stretch/>
        </p:blipFill>
        <p:spPr>
          <a:xfrm>
            <a:off x="7380360" y="5459400"/>
            <a:ext cx="109044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5B859-1B3C-478D-8A6F-28E6230BD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Vieta, kur meklēt un atrast</a:t>
            </a:r>
            <a:endParaRPr b="1" lang="en-US" sz="36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</a:rPr>
              <a:t>Mājas lapa: www.razotsvidzeme.lv (varbūt www.vidzeme.eu 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</a:rPr>
              <a:t>Info par klasteri, pārtikas ražotājiem, pasākumiem, darba laikiem, atrašanās vietu, u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 u="sng">
                <a:solidFill>
                  <a:srgbClr val="7f7f7f"/>
                </a:solidFill>
                <a:uFillTx/>
                <a:latin typeface="Calibri"/>
              </a:rPr>
              <a:t>Izmantojot ģeomātikas rīkus, attīstī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</a:rPr>
              <a:t>Interaktīvu kar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</a:rPr>
              <a:t>Aplikāciju viedtālruņ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7f7f7f"/>
                </a:solidFill>
                <a:latin typeface="Calibri"/>
              </a:rPr>
              <a:t>Sadarbībā ar www.gardumuti.lv un Vidzemes tūrisma klasteri veicināt gardēžu tūrisma attīstī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39709-A9E6-4D69-8B48-353BA29BB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9900"/>
                </a:solidFill>
                <a:latin typeface="Calibri"/>
              </a:rPr>
              <a:t>IT risinājumi </a:t>
            </a:r>
            <a:r>
              <a:rPr b="1" lang="lv-LV" sz="2800" spc="-1" strike="noStrike">
                <a:solidFill>
                  <a:srgbClr val="ff9900"/>
                </a:solidFill>
                <a:latin typeface="Calibri"/>
              </a:rPr>
              <a:t>(kartes, aplikācijas)</a:t>
            </a:r>
            <a:endParaRPr b="1" lang="en-US" sz="28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82" name="Picture 5" descr="C:\Users\Anda.Eihenbauma\Desktop\Galway2.jpg"/>
          <p:cNvPicPr/>
          <p:nvPr/>
        </p:nvPicPr>
        <p:blipFill>
          <a:blip r:embed="rId1"/>
          <a:stretch/>
        </p:blipFill>
        <p:spPr>
          <a:xfrm>
            <a:off x="0" y="1055520"/>
            <a:ext cx="9144000" cy="5666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0" y="1055520"/>
            <a:ext cx="826920" cy="357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6:32:27Z</dcterms:created>
  <dc:creator>KatjaK</dc:creator>
  <dc:description/>
  <dc:language>en-US</dc:language>
  <cp:lastModifiedBy>Anda.Eihenbauma</cp:lastModifiedBy>
  <dcterms:modified xsi:type="dcterms:W3CDTF">2013-11-26T15:09:14Z</dcterms:modified>
  <cp:revision>102</cp:revision>
  <dc:subject/>
  <dc:title>LOREM IPSUM</dc:title>
</cp:coreProperties>
</file>