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CEMET Project: Kick-off Meeting (Avilés, 16-17th June 20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1D2501-BE31-40BF-A04F-0330033AFE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CEMET Project: Kick-off Meeting (Avilés, 16-17th June 201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6849EE-E8A3-4085-8CEC-CFC341F22B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29-78AD-41DF-A6CC-F5064A4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A25-470D-4FA4-9577-8513A8B4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DE2-7B22-4D15-9517-7C716870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A0F-D26D-4892-980F-1DA8D8AE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2C2-9DDA-4729-B5E8-2B703017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8A6D-65A6-4DDF-B38A-FA869C7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437-3E7C-46C8-8864-EB8429C5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F2A-9CED-46F7-9BB6-F6331611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D39-4C9F-4D36-8CEE-3B95C5E1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22B4-DFF2-479F-955B-DE04D881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DC2-5DC0-4662-9DC0-8DF4365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409-A41E-4744-818B-2CAD8D1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27D5-8E12-4AAE-97BA-40AB114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B71-0445-4B17-B4B2-39B1F31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3AA8-BAFC-415C-8BBB-97AE5E67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9A61-8CB4-4CAD-8626-2D16D18B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0AA7-D4DA-41ED-8554-835B2039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0AE-0148-4789-85D8-C449476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2D7-1569-45CD-B291-DBBAB1E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F43-97CD-4FDA-AEE0-0686F2FD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E5C-9A2B-4CEC-AF1F-BC5825B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99A-6209-4B8E-A3F6-331DA5E3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032-D7AC-4FA4-B024-A25D42CA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B1D-582E-4A42-9D04-C1D4872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CDED-F61A-49C9-AC85-500DD1A0CC7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C3E1-B940-44F5-AD97-D4CD7B3DAE6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C:\Users\Yvan.DEX\AppData\Local\Microsoft\Windows\Temporary Internet Files\Content.IE5\U7GHZYA3\MP900398833[1].jpg"/>
          <p:cNvPicPr/>
          <p:nvPr/>
        </p:nvPicPr>
        <p:blipFill>
          <a:blip r:embed="rId2"/>
          <a:stretch/>
        </p:blipFill>
        <p:spPr>
          <a:xfrm>
            <a:off x="7191360" y="260280"/>
            <a:ext cx="141120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4" descr="logo_mediatic_color.jpg"/>
          <p:cNvPicPr/>
          <p:nvPr/>
        </p:nvPicPr>
        <p:blipFill>
          <a:blip r:embed="rId3"/>
          <a:srcRect l="0" t="0" r="2706" b="9916"/>
          <a:stretch/>
        </p:blipFill>
        <p:spPr>
          <a:xfrm>
            <a:off x="7172280" y="6208560"/>
            <a:ext cx="1027080" cy="64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684360" y="6208560"/>
            <a:ext cx="175896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rreg4c.e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hyperlink" Target="http://ec.europa.eu/regional_policy/index_en.cfm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Projekts </a:t>
            </a: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</a:t>
            </a:r>
            <a:br>
              <a:rPr sz="2800"/>
            </a:br>
            <a:r>
              <a:rPr b="0" lang="es-ES" sz="1800" spc="-1" strike="noStrike">
                <a:solidFill>
                  <a:srgbClr val="999900"/>
                </a:solidFill>
                <a:latin typeface="Verdana"/>
              </a:rPr>
              <a:t>(</a:t>
            </a:r>
            <a:r>
              <a:rPr b="0" i="1" lang="lv-LV" sz="1800" spc="-1" strike="noStrike">
                <a:solidFill>
                  <a:srgbClr val="999900"/>
                </a:solidFill>
                <a:latin typeface="Verdana"/>
              </a:rPr>
              <a:t>Informācijas sabiedrības un IKT reģionālo politiku izstrāde audiovizuālajā sektorā</a:t>
            </a:r>
            <a:r>
              <a:rPr b="0" lang="lv-LV" sz="1800" spc="-1" strike="noStrike">
                <a:solidFill>
                  <a:srgbClr val="9999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4600" y="1642680"/>
            <a:ext cx="57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reg IVC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ģionālās iniciatīvas projek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Uzsākšan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01/01/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Noslēgu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/12/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Budž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1.747.721,4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5229360"/>
          <a:ext cx="5376960" cy="749160"/>
        </p:xfrm>
        <a:graphic>
          <a:graphicData uri="http://schemas.openxmlformats.org/drawingml/2006/table">
            <a:tbl>
              <a:tblPr/>
              <a:tblGrid>
                <a:gridCol w="2867040"/>
                <a:gridCol w="2509920"/>
              </a:tblGrid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DF Fu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89.224,2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ublic Co-financ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3.827,1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Budget 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.67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BUD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7.721,4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7200" y="3174840"/>
            <a:ext cx="2392200" cy="84960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4" descr="logo_mediatic_color.jpg"/>
          <p:cNvPicPr/>
          <p:nvPr/>
        </p:nvPicPr>
        <p:blipFill>
          <a:blip r:embed="rId3"/>
          <a:srcRect l="0" t="0" r="2706" b="9916"/>
          <a:stretch/>
        </p:blipFill>
        <p:spPr>
          <a:xfrm>
            <a:off x="6014880" y="4149720"/>
            <a:ext cx="2710080" cy="1712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C:\Users\Marta.Cekule\Desktop\interreg_ES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96000" y="1700280"/>
            <a:ext cx="1546200" cy="1231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6"/>
          <a:stretch/>
        </p:blipFill>
        <p:spPr>
          <a:xfrm>
            <a:off x="2647800" y="6383160"/>
            <a:ext cx="3513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Politiku pārnese un ievieš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Balstoties uz jau projektā paveikto un Observatorijas nodrošināto informāciju, katrs partneris izstrādās individuālu ieviešana plānu, kā arī kopīgu politiku pārneses dokument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olitiku pārneses dokuments tiks prezentēts kā galvenais projekta rezultāts politiku veidotāji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Thanks!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3" name="1 Rectángulo"/>
          <p:cNvSpPr/>
          <p:nvPr/>
        </p:nvSpPr>
        <p:spPr>
          <a:xfrm>
            <a:off x="971640" y="1989000"/>
            <a:ext cx="7667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ank y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 much for your at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iels paldies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 jūsu uzmanību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Judit Pereir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jpereiro@grupodex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C:\Users\Marta.Cekule\Desktop\interreg_ES.png"/>
          <p:cNvPicPr/>
          <p:nvPr/>
        </p:nvPicPr>
        <p:blipFill>
          <a:blip r:embed="rId1"/>
          <a:stretch/>
        </p:blipFill>
        <p:spPr>
          <a:xfrm>
            <a:off x="5364000" y="189000"/>
            <a:ext cx="1440000" cy="114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2870280" y="6392880"/>
            <a:ext cx="35146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Partner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Verdana"/>
              </a:rPr>
              <a:t>Vadošais parneri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eviljas pilsētas do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p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artner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San Sebasti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nas reģionālā attīstības aģentū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p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Korkas Tehnoloģiju institū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Īr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) Vidzem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es plānošanas reģion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L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tv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Vietējo padomju asociācij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M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) Bielsko-Biala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reģionālās attīstības aģentū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l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Dženovas pašvaldīb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I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tāl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) ERNACT EEIG 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Īr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) Kristiansandas pašvaldība– N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rvēģ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) Derijas pilsētas dome-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Lielbrit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C:\Users\Yvan.DEX\AppData\Local\Microsoft\Windows\Temporary Internet Files\Content.IE5\U7GHZYA3\MP900309219[1].jpg"/>
          <p:cNvPicPr/>
          <p:nvPr/>
        </p:nvPicPr>
        <p:blipFill>
          <a:blip r:embed="rId1"/>
          <a:stretch/>
        </p:blipFill>
        <p:spPr>
          <a:xfrm>
            <a:off x="7093080" y="5048280"/>
            <a:ext cx="1568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Pamatojums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2010. gada novembrī divi partneri (Sevilja un San Sebastiana), kuriem ir spēcīga saikne ar audiovizuālajām un radošajām industrijām uzsāka attīstīt projekta ideju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Risināmās problēma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udiovizuālie izaicinājumi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ttīstīb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jaunās tehnoloģijas, kultūras un radošā satura pieejamība un izplatīšan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iprināt jomas starpnozaru un starpreģionu  uzņēmumu sadarbību, lai mazinātu segregāciju starptautiskajā tirgū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Palielināt IKT pielietojumu audiovizuālajās un radošajās industrijā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galvenie mērķ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@TIC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mērķis ir dalīties ar informāciju un pieredzi starp reģioniem, pilsētām ar spēcīgu specializāciju mediju un digitālajā sektor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rojekta uzdevum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Uzlabot vietējās un reģionālās zināšanas par jaunām iespējām mediju un audiovizuālajā sektorā , kuras sniedz Informācijas Sabiedrīb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inovatīvus atbalsta risinājumus uzņēmumiem, kuriem jāpiemērojas jauniem izaicinājumi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apakšmērķ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, analizēt un izvērtēt </a:t>
            </a: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politikas IKT risinājumu ieviešanā audiovizuālā sektora uzņēmumi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, analizēt un izvērtēt inovatīvus atbalsta risinājumus audiovizuālā satura radīšanu digitālajā ērā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un </a:t>
            </a: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pārņemt labās prakses piemērus IKT jomā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un pārnest starpsektoru, starpinstitucionālos un starpreģionālos labās prakses sadarbības piemērus IKT un audiovizuālajā jom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Darba grupu (DG) izveid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DG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udiovizuālā satura radīšana, lai atbalstītu jauna veida izplatīšanu digitālajā ērā (internets, mobilās tehnoloģijas, digitālā televīzija, jauni digitālie atbalsta veidi ut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D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: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tarpsektoru (un starpreģionāla) sadarbība starp uzņēmumiem, kas rada digitālu saturu un audiovizuālajā sektorā kopum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et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odoloģija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trs partneris ir izstrādājis sava reģiona audiovizuālā sektora SVID analī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Analīze ir identificējusi teritorijas, kuras iegūtu visvairāk no labo prakšu ieviešanas savā reģion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et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odoloģija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radošās darbnīcas u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in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āri,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lai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iesaistītu plašāku ekspertu auditoriju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vietu vizī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ajā skait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mo Cen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rs u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the Nerve Cent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 Derijā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di@TIC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bservator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Tehnoloģisks instruments, ko izstrādājis Korkas tehnoloģiju institūts, lai informētu par likumdošanas aktualitātēm, aktīvajām politikām un iniciatīvām sektor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5:09:40Z</dcterms:created>
  <dc:creator>Yvan Corbat</dc:creator>
  <dc:description/>
  <dc:language>en-US</dc:language>
  <cp:lastModifiedBy>Marta Cekule</cp:lastModifiedBy>
  <cp:lastPrinted>2014-03-04T17:35:03Z</cp:lastPrinted>
  <dcterms:modified xsi:type="dcterms:W3CDTF">2014-08-22T09:22:16Z</dcterms:modified>
  <cp:revision>126</cp:revision>
  <dc:subject/>
  <dc:title>EUCEMET: Kick-off Meeting</dc:title>
</cp:coreProperties>
</file>